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0D2D8-5E7C-47E3-B99E-86E02B561EA1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4) Nem tekinthető használt termékne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kávé, továbbá a változatlan (kijavított) állapotban már nem értékesíthető nemesfém termék és drágakő, valam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z adóalany készletében keletkező immobil, elfekvő áru, a selejtes és az értékcsökkent termé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ai: igazolni kell, hogy nagy összegű adóhiányt nem állapítottak meg terhé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rtalmi: a terméket meghatározott célra használjá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Nem vehető igénybe árkiegészítés azon utazási kedvezmény utá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elynek pénzügyi fedezetére jogszabály más forrást határoz meg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elyet az árkiegészítés alanya üzletpolitikai céllal nyúj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3) Nem vehető igénybe árkiegészítés a jogi személyek és a jogi személyiséggel nem rendelkező szervezetek által vásárolt bérletek után, kivéve a nevelési-oktatási intézmények saját tanulóik, illetve a felsőoktatási intézmények saját hallgatóik részére eszközölt bérletvásárlása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4) Az árkiegészítés alanya a (3) bekezdésben meghatározott, árkiegészítés igénybevételére nem jogosító bérleteladásokat darabszám és érték szerint köteles az árkiegészítésre jogosító bérleteladásokból elkülönítve nyilvántartan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8DD8-B96E-4A1D-819F-3A24F688B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1839-029C-4602-B061-20F052513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396B-5915-4867-937C-01F7AD603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2A9C-E655-4D16-B27A-7116809C6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53A5-8DFC-4DA3-B001-8F2FFB36F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365A-E447-453D-9E5D-2C692D1C9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2B85-5B52-4942-B6D3-0D2A422FE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DDC8-DFBF-4509-880A-5A2884689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6B45-085E-4A9A-AA11-1FE1F73F3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06E2-5BDF-429B-856D-A985DA349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FDCD-8EEF-4854-B357-7E0BB4264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ECC2-ECAF-486A-AB3A-523432E9F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9E525-DEEE-419C-8FBE-087C930C97A9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A fogyasztási ad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fogyasztási ad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gyfázisú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gyasztást terhelő adó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fogyasztási adó ma már csak kiegészítő szerepet játszik a jövedéki adó mellet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fogyasztási adó hatálya alá tartozó legfontosabb termékek: egyes nemesfém tárgyak, személygépkocsi, kávé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Az árkiegészítés alapj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z árkiegészítés alapj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 kedvezményes személyszállítási szolgáltatás általános forgalmi adóval növelt díjbevétele, illetv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z életkoruk alapján ingyenes utazásra jogosult magyar állampolgárok, a fegyveres erők hadköteles tagjai és a polgári szolgálatot teljesítők, valamint az országgyűlési képviselők ingyenes utazásához kapcsolódva a belföldi vasúti, a távolsági menetrend szerinti autóbusz-, a vízi-, valamint a helyi közlekedés általános forgalmi adót is tartalmazó díjbevétel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Az árkiegészítés mérték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z árkiegészítés mértéke a személyszállítási szolgáltatás árkiegészítés alapjának meghatározott százaléka (árkiegészítési kulc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fogyasztói árkiegészítés mértéke 5%-tól 900%-ig terjed – szolgáltatástól függő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A fogyasztói árkiegészítésre való jogosultság keletkezé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z árkiegészítés alanya az árkiegészíté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zolgáltatásnyújtásról kiállított számlán a teljesítés időpontjaként feltüntetett naptól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észpénzfizetés esetén, illetve ha az árkiegészítés alanya a számviteli törvény alapján könyvvezetési kötelezettségének a pénzforgalmi szemlélet szerint tesz eleget, vagy csak a bevételeiről köteles nyilvántartást vezetni, akkor az ellenérték kiegyenlítésének napjától igényelhet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A játékad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z adó célja a szerencsejátékokból származó jövedelmek egy részének közcélra fordítás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játékadó szabályozása a szerencsejáték szervezéséről szóló törvényben található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játékadó speciális fogyasztást terhelő adó, , amely általában a nyereményalaphoz, és nem az elért nyereményhez igazodi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játékadó alanya a szerencsejáték szervezőj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zerencsejáték szervezője önadózás útján fizeti meg az adó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A sorsolásos játékok adój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, más nem folyamatosan szervezett sorsolásos játékok játékadója a nyereményalap 16%-a, az adómentes sorsolásos játékok kivételével. A nyereményalap=adóalap a kibocsátott sorsjegyek számának és fogyasztói árának a szorzata, (folyamatosan szervezett sorsolásos játék esetében is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Speciális szabályo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 sorsjáték játékadója a havi nyereményalap 16%-a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 lottójáték játékadója a havi nyereményalap 17%-a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 bingójáték játékadója a havi nyereményalap 7%-a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 jokerjáték játékadója pedig a havi nyereményalap 17%-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 kenójáték játékadója a havi tiszta játékbevétel 24%-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A totalizatőri rendszerű fogadások játékadój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A totalizatőri rendszerű fogadás olyan fogadási forma, amikor a tétek összeadódnak és ennek az összegnek a játéktervben meghatározott hányada a játéktervben meghatározottak szerint kerül nyereményként szétosztásra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A folyamatosan szervezett totalizatőri rendszerű fogadások játékadója a havi nyereményalap 17%-a, a nem folyamatosan szervezett totalizatőri rendszerű fogadások játékadója pedig a nyereményalap 17%-a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A belföldi totalizatőri rendszerű agár- és lóversenyfogadás a játékadó fizetési kötelezettség alól mentes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A bukmékeri rendszerű fogadások játékadój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bukmékeri rendszerű fogadás olyan fogadási forma, amelyben a fogadásszervező a fogadási ajánlatában meghatározott fogadási esemény bekövetkeztére a fogadó részére a nyereményszorzó alapján megállapított pénzösszeget ajánl fel és nyerés esetén az a megállapodásban rögzítettek szerint fizeti k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bukmékeri rendszerű fogadás esetén az adóalap a tiszta játékbevétel csökkentve kell az érvénytelen fogadások miatt a tárgyhónapban visszafizetett tétek összegével. A bukmékeri rendszerű fogadás játékadója az így csökkentett tiszta játékbevétel 30%-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A pénznyerő automaták játékadój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énznyerő automata játékadója játékhelyenként - a játékkaszinóban üzemeltetett pénznyerő automata kivételével - havi 45 000 forint. A játékadót minden megkezdett hónap után meg kell fizetn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énznyerő automata után már megfizetett játékadót nem lehet visszaigényelni, kivéve, h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énznyerő automata megsemmisült, vagy tartósan üzemképtelenné vál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jogszabály szerinti üzemeltetés nem lehetség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A játékautomata játékadój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játékautomata éves adója gépenként 60 000 forint. A játékautomata üzemeltetője köteles a féléves adóösszeget - a gép félévenkénti nyilvántartásba vétele iránti kérelem benyújtását megelőzően - bevallani, és ezzel egyidejűleg megfizetni. A megfizetés tényét igazolni kel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A játékkaszinó játékadój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játékkaszinó játékadója - ideértve a játékkaszinóban üzemeltetett pénznyerő automatát is - a havi tiszta játékbevétel 30%-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tiszta játékbevételt növeli a tárgyhóban elfogadott borravaló 50%-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A fogyasztási adó alany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 adó alany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 a jogi személy, jogi személyiséggel nem rendelkező szervezet, illet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, a személyi jövedelemadóról szóló törvényben meghatározott egyéni vállalkozó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kit a - saját nevében és felelősségére bevétel elérése érdekében - belföldön adóköteles terméket értékesít, illetve szolgáltatást nyúj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anya az adónak az az egyéni vállalkozónak nem minősülő természetes személy is, aki az adóköteles termékértékesítést rendszeresen vagy üzletszerűen végz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 adó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saját előállítású termék után a termelő, a bérmunka keretében termeltetett termék után pedig a termeltető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nem adóalany termelőtől és termeltetőtől belföldi értékesítésre beszerzett, illetve az adó- és vámhatóságtól, bíróságtól belföldi értékesítésre átvett termék esetén a vevő, a felvásárló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zeti me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 importált termék után az adót az importáló fizeti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Az adókötelezettsé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A fogyasztási adó nem általános jellegű, csak egyes termékek értékesítését terheli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Az adókötelezettséget ezen termékek belföldi értékesítése, valamint importálása keletkezteti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A termékimport vámmentesség esetén adómentes – az Áfa szabályaihoz hasonlóan és a kivételek is hasonlóak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Az adókötelezettség a jövedéki adótól eltérően nem az előállításkor, hanem az értékesítéskor keletkezik. Termékimport esetén az adófizetési kötelezettség a terméknek a belföldi forgalom számára történő vámkezelése alkalmával tartott belső áruvizsgálat időpontjában keletkezik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Az adó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a saját előállítású termék után a termelő, a bérmunka keretében termeltetett termék után pedig a termeltető,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a nem adóalany termelőtől és termeltetőtől belföldi értékesítésre beszerzett, illetve az adó- és vámhatóságtól, bíróságtól belföldi értékesítésre átvett termék esetén a vevő, a felvásárló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fizeti meg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Az importált termék után az adót az importáló fizeti. E törvény alkalmazásában importálónak az minősül, akit jogszabály vámfizetésre kötelezett személyként nevez meg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Nem kell adót fizetni a használt termék belföldi értékesítése után. (Használt terméknek a rendeltetésszerű használat után újraértékesített termék minősül. 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Az adómentessé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z adóalany és az importáló egyes esetekben mentesülhet az adó megfizetése aló, de a mentesség a vámhatóság mérlegelésétől füg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mentesítésnek vannak formai és tartalmi feltétele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Az adó alapj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000000"/>
                </a:solidFill>
                <a:latin typeface="Times New Roman"/>
              </a:rPr>
              <a:t>Az adó alapja: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5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hu-HU" sz="1500" spc="-1" strike="noStrike">
                <a:solidFill>
                  <a:srgbClr val="000000"/>
                </a:solidFill>
                <a:latin typeface="Times New Roman"/>
              </a:rPr>
              <a:t>a saját előállítású és a bérmunkában termeltetett termékné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500" spc="-1" strike="noStrike">
                <a:solidFill>
                  <a:srgbClr val="000000"/>
                </a:solidFill>
                <a:latin typeface="Times New Roman"/>
              </a:rPr>
              <a:t>aa) </a:t>
            </a:r>
            <a:r>
              <a:rPr b="0" lang="hu-HU" sz="1500" spc="-1" strike="noStrike">
                <a:solidFill>
                  <a:srgbClr val="000000"/>
                </a:solidFill>
                <a:latin typeface="Times New Roman"/>
              </a:rPr>
              <a:t>a saját kiskereskedelmi hálózatba, üzlethelyiségbe történő kiszállítás esetén a termék adót és általános forgalmi adót nem tartalmazó forgalmi értéke,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500" spc="-1" strike="noStrike">
                <a:solidFill>
                  <a:srgbClr val="000000"/>
                </a:solidFill>
                <a:latin typeface="Times New Roman"/>
              </a:rPr>
              <a:t>ab) </a:t>
            </a:r>
            <a:r>
              <a:rPr b="0" lang="hu-HU" sz="1500" spc="-1" strike="noStrike">
                <a:solidFill>
                  <a:srgbClr val="000000"/>
                </a:solidFill>
                <a:latin typeface="Times New Roman"/>
              </a:rPr>
              <a:t>egyéb esetekben az értékesített termék fogyasztási adót és általános forgalmi adót nem tartalmazó ellenértéke,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5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hu-HU" sz="1500" spc="-1" strike="noStrike">
                <a:solidFill>
                  <a:srgbClr val="000000"/>
                </a:solidFill>
                <a:latin typeface="Times New Roman"/>
              </a:rPr>
              <a:t>a nem adóalanytól továbbértékesítésre beszerzett terméknél a vételár,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5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hu-HU" sz="1500" spc="-1" strike="noStrike">
                <a:solidFill>
                  <a:srgbClr val="000000"/>
                </a:solidFill>
                <a:latin typeface="Times New Roman"/>
              </a:rPr>
              <a:t>a nem termelési, valamint a reprezentációs célú termékfelhasználás esetén a beszerzési ár, ennek hiányában a termék adót és általános forgalmi adót nem tartalmazó forgalmi értéke,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500" spc="-1" strike="noStrike">
                <a:solidFill>
                  <a:srgbClr val="000000"/>
                </a:solidFill>
                <a:latin typeface="Times New Roman"/>
              </a:rPr>
              <a:t>d)</a:t>
            </a:r>
            <a:r>
              <a:rPr b="0" lang="hu-HU" sz="1500" spc="-1" strike="noStrike">
                <a:solidFill>
                  <a:srgbClr val="000000"/>
                </a:solidFill>
                <a:latin typeface="Times New Roman"/>
              </a:rPr>
              <a:t>az importált termék esetében pedig a vámérték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000000"/>
                </a:solidFill>
                <a:latin typeface="Times New Roman"/>
              </a:rPr>
              <a:t>Ha az értékesített, importált termék ellenértéke termék vagy szolgáltatás (árucsere esetén), az adó alapja a termék pénzben kifejezett ellenértéke, ennek hiányában a szokásos piaci ára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000000"/>
                </a:solidFill>
                <a:latin typeface="Times New Roman"/>
              </a:rPr>
              <a:t>A termék forgalmi értéke a terméknek az az ára, amelyet a felek hitelt érdemlően igazolhatóan a fennálló piaci körülményeknek és helyzetüknek megfelelően állapítottak meg, illetve mely független felek között - normális piaci körülmények között - általában elérhető lenne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000000"/>
                </a:solidFill>
                <a:latin typeface="Times New Roman"/>
              </a:rPr>
              <a:t>Az ellenérték helyett az értékesített termék adó és általános forgalmi adó nélküli, az adófizetési kötelezettség keletkezésének időpontjában fennálló forgalmi értéke az adó alapja akkor is, ha</a:t>
            </a:r>
            <a:r>
              <a:rPr b="0" i="1" lang="hu-HU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1500" spc="-1" strike="noStrike">
                <a:solidFill>
                  <a:srgbClr val="000000"/>
                </a:solidFill>
                <a:latin typeface="Times New Roman"/>
              </a:rPr>
              <a:t>az ellenérték az értékesített termék adó és Áfa nélküli, az adófizetési kötelezettség keletkezésének időpontjában fennálló forgalmi értékéhez hasonlítva aránytalanul alacsony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Az adó mérték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z adó mértéke a termék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óalapjának meghatározott százalék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z a törvény melléklete szerint – adótárgytól függően – 10%-35% leh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Eljárási szabály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Az adót önadózással kell megállapítan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A fizetendő adóból levonhatja, vagy az állami adóhatóságtól visszaigényelheti a terméket terhelő adó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az adó alanya, import esetén az importáló, ha az adóval növelt áron értékesített, beszerzett terméket visszaveszi vagy külföldre visszaszállítja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a vevő, ha az adóval növelt áron beszerzett terméket a külkereskedelmi áruforgalom keretében exportálja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Times New Roman"/>
              </a:rPr>
              <a:t>c)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a vevő, import esetén az importáló, ha a nemesfém, illetve kávé terméket adóval növelt áron szerezte be, de azt közvetlen anyagként a saját előállítású vagy bérmunkában termeltetett termékéhez használja fel, kivéve az ételhez és a cukrászipari termékhez történő felhasználást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Levonható (visszaigényelhető) adóként az adóalany vagy az importáló által az árban felszámított, az adóalany vagy az importáló számlájával igazolt adó vehető figyelembe. Az importáló levonható (visszaigényelhető) adóként a vámhatóság által kivetett adót érvényesíthet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Az adólevonási (adóvisszaigénylési) jog kizárólag a törvényben meghatározott bizonylat birtokában érvényesíthető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A fogyasztói árkiegészítés fogal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fogyasztói árkiegészítés még ma is az egyik legfontosabb költségvetési támogatá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fogyasztói árkiegészítés egyes szolgáltatásoknak az árkiegészítés alanya által belföldön történő nyújtása esetén vehető igényb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Az árkiegészítés alany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z árkiegészítés alany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z a jogi személy, jogi személyiséggel nem rendelkező szervezet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z, a személyi jövedelemadóról szóló törvényben meghatározott egyéni vállalkozó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melyet (akit) a - saját nevében és felelősségére bevétel elérése érdekében - belföldön végzett szolgáltatásnyújtása árkiegészítés igénylésre jogosí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Árkiegészítést igényelhet az, aki hatósági áras különjárati autóbusz-szolgáltatást végez, továbbá az, aki oly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közúti közlekedésről és a vasútról szóló törvények alapján végzett koncesszió köteles, menetrend szerinti vasúti vagy közúti személyszállítási szolgáltatást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lvízi személyszállítást, révközlekedé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yújt, amelyhez jogszabály utazási kedvezményt állapít me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0T15:05:15Z</dcterms:created>
  <dc:creator>Halász Család</dc:creator>
  <dc:description/>
  <dc:language>en-US</dc:language>
  <cp:lastModifiedBy>MFB Rt.</cp:lastModifiedBy>
  <dcterms:modified xsi:type="dcterms:W3CDTF">2002-03-29T11:54:20Z</dcterms:modified>
  <cp:revision>1</cp:revision>
  <dc:subject/>
  <dc:title>A fogyasztási adó</dc:title>
</cp:coreProperties>
</file>