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BC10-6751-4D3A-9E99-EE0AA3ADD12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9E32-0DEA-4870-B4CD-D7CB576F406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727160"/>
            <a:ext cx="5029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04840" y="866880"/>
            <a:ext cx="4648320" cy="3485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0E8E-51FD-4B35-B68E-B106FB24E88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727160"/>
            <a:ext cx="5029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04840" y="866880"/>
            <a:ext cx="4648320" cy="3485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8F04-432F-4F4D-8F6F-2B66B719609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727160"/>
            <a:ext cx="5029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04840" y="866880"/>
            <a:ext cx="4648320" cy="3485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A3F-D8E2-4A90-BA9D-102BE8CD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217-D8FC-4BA4-868A-E634268B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776-DA4C-409B-85E7-AE385A44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EF8-92B7-4C6B-B814-1168AD94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7E95-F95A-499A-BFBF-5A44E139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FC39-1A43-4F8F-998A-E5C05C25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9D7C-5CF1-4E4B-BF27-7454DBD8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5C7A-08E0-4BDB-BC2E-3765233B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5FC8-F2FE-40F1-8563-CE331274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D42D-E849-47C9-968E-CEA4EDF3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6BAD-183E-4413-82AA-201119E6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1A8-9A68-41F5-AE40-BF7A668D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E2C8-9F6F-4602-873D-CF0ACB4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F66F-312D-4AFB-B0C6-39B7DA1D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652F-5BCF-471B-82B3-800444A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F040-9124-45EC-B5B3-36351657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A7D-AC8D-41ED-A5E9-7E5F34FE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1C1-2B02-4081-89D3-33CD7464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4F3-830F-4BA6-9ADE-449404DD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D4A-D84E-4C7E-BCDC-06DEBA89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863-4B7E-49EE-B112-01C79413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446-6229-417C-9575-B978FD3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244-BC12-4C6C-8977-F439B7EA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EC9-438E-461F-8C2A-75B2E1C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4AD8-A09C-4F1C-89AD-7BE25B933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467480" y="4572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" name="D&amp;T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0672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6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8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78CA-56BA-4E98-9401-7BA8CCB27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z ÁFA az EU-ba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1C74-685F-4DBA-94CA-5FE658E84E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Times New Roman"/>
              </a:rPr>
              <a:t>Konyak v. Whis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Gabonaféléből készült magas alkoholtartalmú italok sokkal nagyobb közvetett adóval sújtotta Franciaország mint a gyümölcsből készült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ranciaország: a termékek különböző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Jóllehet íz és fogyasztási szokások különbözőek, de mégis helyettesíthet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BBFE-EAAA-40F7-9A92-8836230170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Times New Roman"/>
              </a:rPr>
              <a:t>Sör v. 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nglia rendkívül magas adót a borra a sörhöz ké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óllehet íz és fogyasztási szokások különbözőek, de mégis helyettesíthet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599-A9BE-478F-B876-8FB7D3EEE7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Times New Roman"/>
              </a:rPr>
              <a:t>Belga vagyonátruházási illeté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ltérő adókulcs terheli a lábon álló, a döntött és a vágott fűrészárut. Belga import nagy részét a fűrészá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szkriminatí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916-BAC9-4028-99B5-558861F4DA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ómai Szerződés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9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. cikkel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ok az áruk, amelyeket a tagállamok egyikébe exportálnak,nem részesülhetnek na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b adó-visszatérítési kedvezményben, mint amilyen nagyságú adók közvetlenül vagy közvetve terhelték azokat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1CE-3DB5-421D-ADF4-8178B1E2CA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Times New Roman"/>
              </a:rPr>
              <a:t>Vas és acélexport Olaszországbó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Visszatéríti az olasz állam a társaság regisztrációs díját is és egyéb illetéke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mogatás, mert nemcsak a terméket illető, hanem a termelőt terhelő díja is visszafizetésre kerüln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C4D-9802-4C65-A452-BAF18739D7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ómai Szerződés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9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. cikkel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forgalmi  adókon, a jövedéki adókon és egyéb közvetett adókon kívüli adókra vonatkozó mentesítések …, kivitelt illetően visszatérítések … valamint importot  kiegyenlítő díjak csak akkor megengedettek, ha azokat a Tanács előzőleg – a Bizottság javaslatára –minősített többséggel, </a:t>
            </a:r>
            <a:r>
              <a:rPr b="0" lang="hu-HU" sz="2800" spc="-1" strike="noStrike">
                <a:solidFill>
                  <a:srgbClr val="cc0000"/>
                </a:solidFill>
                <a:latin typeface="Times New Roman"/>
              </a:rPr>
              <a:t>meghatározott időre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engedélyez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él, hogy  ne legyen versenyelőny illetve manipulálás közvetlen és közvetett adók között -Eddig még nem volt kérelemre vagy  felmentésre pél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834-F9F9-4E2C-AF41-F28A0C9186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ómai Szerződés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9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. cikkel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Tanács a Bizottság javaslat alapján … meghozza azokat a rendelkezéseket, amelyek a belső piac létrehozásának és működésének az érdekében a forgalmi adók … harmonizációját célozz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987-2EAF-41CC-803A-03743A03BF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források - Irányelv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49200" y="2080800"/>
            <a:ext cx="7693200" cy="3979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1st EU VAT Directive 1967 (Dir. 67/227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2nd EU VAT Directive 1967 (Dir. 67/22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6th EU VAT Directive 1977 (Dir. 77/38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8th EU VAT Directive 1979 (Dir 79/1072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13th EU VAT Directive 1986 (Dir 86/560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További a 6. Irányelvet módosító irányelve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091-C5F2-4684-9111-12A14F331EE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1- 2 Irányelv (1967) – </a:t>
            </a:r>
            <a:br>
              <a:rPr sz="4400"/>
            </a:b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elv és alapkategóriá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közös ÁFA rendszer elve azt jelenti, hogy a termékértékesítésre és  szolgáltatásnyújtásra olyan általános fogyasztási adót kell kivetni, amely arányos a termékek és szolgáltatások árával, függetlenül az adómegállapítást megelőző, az előállítási és értékesítési fázis során felmerülő ügyletek számától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EF4-1D36-40F9-B995-B88679CC4E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6. Irányelv (1978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920000" cy="3832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Átfogó  keretben harmonizálja a többfázisú nettó forgalmi adózás elemeit. Elvi és alapvető jogforrá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Legjelentősebb módosítás az átmeneti ÁFA ren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szer bevezetése az adóhatárok megszűntetése nyomán 1993 január 1-tő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Szabályozza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3760" indent="-36180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KI - Adóalanyisá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3760" indent="-36180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MIT – Adóztatható értékesítése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3760" indent="-36180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HOL – Teljesítési helyek értékesítésné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3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F3D-09EF-4028-9F83-3BCA549D121A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Előadás tartal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zvetett adók rendszere az EU-b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óma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rányelv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2B2-ED2E-4BD1-AB13-4419524222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dóalany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6B44-2685-4286-A033-A03BA5C907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dóalan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dóalany az aki a Közösség területén önállóan gazdasági tevékenységet folytat függetlenül a tevékenység céljára és eredményé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40C-5A77-49B9-B11A-DDCC180EA2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alanyiság </a:t>
            </a: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Polysar (1991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ff"/>
                </a:solidFill>
                <a:latin typeface="Times New Roman"/>
              </a:rPr>
              <a:t>Tény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ás társaságokban való részesedés szerzése és tartása nem minősül gazdasági tevékenység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rányításban való részvétel feltétele az adólalanyiságn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ff"/>
                </a:solidFill>
                <a:latin typeface="Times New Roman"/>
              </a:rPr>
              <a:t>Következte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em adóalany a ho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A1C-42E8-4E9B-8C3E-A0071F8D8935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alanyiság személy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Harnas &amp; Hel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rnas &amp; He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azdasági tevékeny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seti jellegű felvásárlás és értékpapírok tulajdonlása nem minősül gazdasági tevékenység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FA hatályon kívü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intén,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Renate Enkler (199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0A2-7589-4D77-BF00-692FC3D76A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dóztatható értékesítés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kértékesí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rtokba vehető dolgok felett tulajdonosként való rendelkezési jog átruhá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olgáltatásnyúj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mi nem termékértékesítés az szolgáltatásnyúj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862-C46D-42C7-9E35-E9441EF5BD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dóztatható értékesítések-Alapvető ügyl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dott országon belüli tranzakció – belföldi értékesí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zösségen belüli tranzakci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mport és 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olgáltatás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798-3510-4A8D-832F-938C25F5BC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1.) Belföldi értékesíté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rtékesí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gyarországon belüli értékesí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őszabály: magyar ÁFA-t kell felszámítania a szállítón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üggetlenül attól, hogy hol van a kereskedő cégeknek a székhely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8D9-4FE5-449B-B115-F384B10C0A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Adott országon belüli belföldi értékesítés - pél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8" name="j0178253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j0178249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43360" y="24382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agyarország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800" y="25146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émetorszá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2168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5032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65760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3120" y="3809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zám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708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7815200">
            <a:off x="420120" y="3230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Termék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200400"/>
            <a:ext cx="380880" cy="1066680"/>
          </a:xfrm>
          <a:custGeom>
            <a:avLst/>
            <a:gdLst>
              <a:gd name="textAreaLeft" fmla="*/ 50760 w 380880"/>
              <a:gd name="textAreaRight" fmla="*/ 330120 w 3808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216-41EC-44AD-B406-3E66F99311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ffff"/>
                </a:solidFill>
                <a:latin typeface="Times New Roman"/>
              </a:rPr>
              <a:t>Termékértékesítés teljesítési hely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70000" y="1946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termékértékesítés iránya és nem a számlázás iránya határozza m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3276720"/>
            <a:ext cx="7772400" cy="27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ő szabály sze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hol a termék az értékesítéskor talál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közlekedés megkezdésének hel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összeszerelés hel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import megvalósításának hel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B6D-8FC7-4F79-A853-78314025E4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2.) Közösségen belüli értékesítés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kértékesítés A tagországból B tagország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FA keze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A országban lévő cég közösségen belüli értékesítést vég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B országban lévő cég közösségen belüli beszerzést vég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F4B-71C4-4197-A789-D9BB8CA6F9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EU közvetett adók - Jogforráso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49200" y="2080800"/>
            <a:ext cx="7693200" cy="3979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78000" indent="0">
              <a:spcBef>
                <a:spcPts val="850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3400" spc="-1" strike="noStrike">
                <a:solidFill>
                  <a:srgbClr val="ffffff"/>
                </a:solidFill>
                <a:latin typeface="Times New Roman"/>
              </a:rPr>
              <a:t>Római Szerződés -</a:t>
            </a:r>
            <a:r>
              <a:rPr b="0" lang="en-GB" sz="3400" spc="-1" strike="noStrike">
                <a:solidFill>
                  <a:srgbClr val="ffffff"/>
                </a:solidFill>
                <a:latin typeface="Times New Roman"/>
              </a:rPr>
              <a:t> 1957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hu-HU" sz="3400" spc="-1" strike="noStrike">
                <a:solidFill>
                  <a:srgbClr val="ffffff"/>
                </a:solidFill>
                <a:latin typeface="Times New Roman"/>
              </a:rPr>
              <a:t>Irányelvek, különösen a 6. irányelv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51C-E6B1-4EBA-90BF-1B89C244E141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özösségen belüli beszerzé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5" name="j0178253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j0178249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21040" y="205740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agyarország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3760" y="20574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émetorszá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32767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39280" y="35053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rmék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3096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5032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806-0E73-4974-A22B-774C7CEC7C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Péld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j0178253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j0178249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121040" y="205740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agyarország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13760" y="20574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émetorszá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2767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3760" y="39625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ermék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3096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5032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5000" y="3352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5040" y="33526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 - ICS  Közösségen belüli értékesítés – 0% / mentes 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  - ICA  Közösségen belüli beszerzés – német ÁF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CF2-A45E-4496-A8FE-A8ADC6A54F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özösségen belüli értékesítés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0 % / mentes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2 felté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vevő és az eladó ÁFA azonosító számát fel kell tüntetni a szám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eladónak bizonyítania kell, hogy az árut egy másik tagállamba szállított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F4F-589A-416A-B703-253829072C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3.a) EXPOR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sak abban az esetben, ha az áruk elhagyják az EU-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0% / Beszerzési ÁFA levonásának lehetősé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jesítés helye: ahol a szállítás megkezdőd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2E0-0626-41E2-9638-0518B175A1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3.b.)IMPOR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izárólag vámáruk ( EU-n kívülről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import abban a tagországban kerül adóztatásra ahol az import megvalós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mportáláskor ÁFA kerül felszámítás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vámértéken + import-terhek + EU-n belüli szállítás költség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Vámhatóság részére fizetés vagy halasztás ( bizonyos tagállamokban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FB8-C269-4AB2-8CE0-D3D49ABBE3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4.)Szolgáltatáso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mi nem termékértékesítés az szolgáltatásnyúj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teljesítés helye ott található, ahol a szállí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e, székhelye találha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042-80E9-4E1E-B7EA-175910A823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ivétel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gatlanhoz kapcsolodó szolgáltatás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ingatlan fekvése szerint                           ( ingatlanügynök, építési kivitelezés irányítása, építész szolgáltatása, stb.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233-2B68-4C1B-8904-BAD7A707F9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ivétel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szolgáltatás nyújtásának tényleges hely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góságon végzett munkálatok és értékelés: kulturális, művészeti, sportolási, oktatási, szórakoztatási szolgáltatás ( beleértve ezek szervezését és kiegészítő szolgáltatásokat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1DB-DADC-433E-A461-B06C359B0A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ivételek – 9.2.e paragrafu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vevő székhelyének, telephelyének fekv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er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vevő székhelye, telephelye, állandó lakhelye az EU-n kívül találha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vevő székhelye, telephelye, állandó lakhelye az EU-n belül található és ÁFA alany, aki a szolgáltatást gazdasági tevékenységéhez igénybe vesz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8ED-A32C-4EA6-BE2A-53B4AD601A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ffff"/>
                </a:solidFill>
                <a:latin typeface="Times New Roman"/>
              </a:rPr>
              <a:t>Kivételek – 9.2.e paragrafu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Jogok, licenciák átruház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klám, propaganda 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anácsadás, ügyvédi, könyvvizsgálói 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telezettségvállalás arra, hogy tartózkodik bizonyos cselekménytől, illetve kötelezettségvállalás bizonyos cselekedet megtételé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énzügyi + biztosítási 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unkaerő közvetítés – kölcsönz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ngóságok bérbeadása ( járművek kivételével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lekommunikációs 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Ügynöki szolgáltatás a fentiek vonatkozásáb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7EB-1079-4E61-BDC1-94555FED03F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 Római szerződés adójogi szabály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334008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5562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FFD3-B39C-4936-B176-8929AF7CA77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Európai Bíróság (European Court of Justice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ere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z Európai Unió legfelsőbb bírósá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ja hogy a tagállamok betartsák a közösségi jog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ikényszeríti a bizottság döntés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egválaszolja a nemzeti bíróságok által feltett kérdések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ED4-0C4B-4EB8-805E-AFDB385FEA2A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ÁFA Esetjog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909800" y="4201920"/>
            <a:ext cx="681048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88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F04-8040-4E10-A0E7-4436043FD999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köteles szolgáltatás  </a:t>
            </a: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Goodwin &amp; Unste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0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win and Unstead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em számolt fel Áfa-t a hamisított parfümök értékesítése sorá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Dön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versenynek érvényesülnie kell a hamisított és az eredeti termékek közötti kereskedelem esetén s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Áfa fizetési kötelezettség keletkezik a hamisított parfümök értékesítése után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36F-AAFB-44BB-8473-D100C35808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köteles szolgáltatás </a:t>
            </a: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Karlheinz Fisch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r. Fischer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ngedély nélkül „rulette játékokat” működt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engedély nélküli szerencsejáték tevékenység versenyt jelent az engedélyezett rulette játékok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Dön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Nem kötelező Áfa-t felszámolni az engedély nélküli tevékenységre, ha az engedélyezett játékterem által nyújtott megegyező tevékenység Áfa mentesnek minősü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295-B614-466D-9751-E742893750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köteles szolgáltatás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VOF Coffeeshop Siberië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holland kávézokban illegálisan lehet droghoz jut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sztalt vesznek bérbe az illegális tevékenység folytatásáho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ön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Áfa-t kell fizetni a bérbeadás után, mert ez versenyt jelent a legális tevékenyséhez kapcsolódó bérbeadás esetén, amely áfa köt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03C-294F-4D93-80E8-E39D8BD8E8A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köteles szolgáltatás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Happy Famil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llegális drogok árus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Times New Roman"/>
              </a:rPr>
              <a:t>Dön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em Áfa köteles tevékenység, mert nem jelent versenyt a legális tevékenységekr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AF1-A9CC-4EE2-B1DF-169589AF9F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Adóköteles szolgáltatás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Landboden Agrardienste Gmb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Arial"/>
              </a:rPr>
              <a:t>Tény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mpenzációs kifizetések a burgonya termelésének 20%-os csökkenése miat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pezi-e a kifizetés az Áfa tárgyá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Arial"/>
              </a:rPr>
              <a:t>Dön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ompenzációs kifizetés nem minősül szolgáltatásnak az Áfa szempontjábó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CBE-79BD-49A1-928C-37C87D34B5F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Szolgáltatás teljesítési helye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ARO Lease B.V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holland társaság autókat bérel belga ügyfelein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ol történik a teljesítés - Hollandiában, vagy Belgiumba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Íté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egyéni vállalkozású ügynökök tevékenysége nem keletkezetet telephelyet Belgiumban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eljesítés helye, ahol ARO székhelye 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Hollandiában számolnak fel Áfa-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480-386D-4F6C-BFC5-3DAB0CA5AF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Értékesítések ösztönzésese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Kuwait Petroleum (GB) Lt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Tény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Ingyen ajándékokat adtak azon vevőknek akik a tankoláskor utalványt kapt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előzetesen felszámított ÁFÁ-t levonták de az értékesítés után nem számítottak fel adó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Íté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dóköteles termékértékesí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85D-D60D-4424-9678-57810CEB8B5A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Kivételek</a:t>
            </a:r>
            <a:br>
              <a:rPr sz="4400"/>
            </a:b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Elisabeth Blas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Arial"/>
              </a:rPr>
              <a:t>Té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isabeth Blasi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rződés alapján 6 hónapra kiadja a lakókocsij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bérbeadások átlagos időtartalma 14 hón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Arial"/>
              </a:rPr>
              <a:t>Dön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a bérbeadás rövid idöszakot ölel át akkor adó köteles, a szállodai gyakorlatnak megfelelő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nemzeti bíróságoknak kell eldönteniük, hogy a szerződés tükröz-ei a felek valódi szándéká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CFC-685F-4328-92DC-065C889E778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Times New Roman"/>
              </a:rPr>
              <a:t>A Római Szerződés adózási szabály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Állampolgári alapon történő diszkrimináció  tilalma (12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ámunió és vámforgalmi illeték kivetésének a tilalma (23-25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unkavégzés szabadsága (39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Polgárok szabad letelepedését gátló intézkedések tilalma (43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állalkozások szabad letelepedését gátló intézkedések tilalma (48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őke és pénzmozgások szabadsága (56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ennyiségi korlátozások tilalma (86. cik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5D8-DDD2-427F-8AAF-CC9E3C9AFEB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Kivételek                                    </a:t>
            </a:r>
            <a:r>
              <a:rPr b="0" i="1" lang="en-GB" sz="4400" spc="-1" strike="noStrike">
                <a:solidFill>
                  <a:srgbClr val="ffcc00"/>
                </a:solidFill>
                <a:latin typeface="Times New Roman"/>
              </a:rPr>
              <a:t>Card Protection Pla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Arial"/>
              </a:rPr>
              <a:t>Tény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PP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lyan szolgáltatáscsomagot kínál, amely tartalmaz biztosítást hitelkártya elvesztése esetén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nácsadói szolgáltatás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t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 egy, vagy több szolgáltatásnak minősü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t biztosítás, Áfa mentesnek minősü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Arial"/>
              </a:rPr>
              <a:t>Dön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ntesség nem korlátozódik csak a hivatalos biztosító által nyújtott biztosítás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gy egy vagy több szolgáltatásnak minősül, a nemzeti bíróságok hatáskörébe tartoz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D4F-2C85-4FD4-8ECD-FE95E1A5504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Times New Roman"/>
              </a:rPr>
              <a:t>A Római Szerződés közvetett adókra vontakozó szabály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206496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ókra vonatkozó rendelkezések 90-93 cikk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kmozgást érintő szabályozás nem lehet diszkriminatí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ogyasztást érintő adó nem lehet protekcion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CE7-BF57-40C7-B45E-EE2F614439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ómai Szerződés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9</a:t>
            </a: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0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. cikkel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tagállamok sem közvetve, sem közvetlenül nem vetnek ki olyan adót a másik tagállamból származó termékre, melynek mértéke magasabb, mint a </a:t>
            </a:r>
            <a:r>
              <a:rPr b="0" lang="hu-HU" sz="2800" spc="-1" strike="noStrike">
                <a:solidFill>
                  <a:srgbClr val="cc0000"/>
                </a:solidFill>
                <a:latin typeface="Times New Roman"/>
              </a:rPr>
              <a:t>hasonló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jellegű termékre kivetett adó mérték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tagállamok továbbá nem vetnek ki más tagállamból származó termékre olyan belső adókat, amelyek közvetve </a:t>
            </a:r>
            <a:r>
              <a:rPr b="0" lang="hu-HU" sz="2800" spc="-1" strike="noStrike">
                <a:solidFill>
                  <a:srgbClr val="cc0000"/>
                </a:solidFill>
                <a:latin typeface="Times New Roman"/>
              </a:rPr>
              <a:t>más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termékek védelmét szolgáljá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E6B-0C69-46E6-867E-0132B41E5A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Times New Roman"/>
              </a:rPr>
              <a:t>Humb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1.100 v. 5.000 FF gjmű. adó, amely méretűt csak importálnak, de nem gyártan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rotekcionista, ez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 a 90. Cikkelybe ütköz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C66-FE20-486D-9C1F-E0C5840084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00"/>
                </a:solidFill>
                <a:latin typeface="Times New Roman"/>
              </a:rPr>
              <a:t>Jogesete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Times New Roman"/>
              </a:rPr>
              <a:t>Chemical Farmaceut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cc0000"/>
                </a:solidFill>
                <a:latin typeface="Times New Roman"/>
              </a:rPr>
              <a:t>Ténye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egkülönböztetés a szintetikus és az erjesztéssel előállított etilalkohol között és Olaszországban csak erjesztéssel állították elő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Olasz hivatkozás, hogy az adópolitika az etilénnel való takarékosságra ösztönöz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cc0000"/>
                </a:solidFill>
                <a:latin typeface="Times New Roman"/>
              </a:rPr>
              <a:t>Dönté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Jogos kivétel és nem ütközik 90. Cikkelybe ütköz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5FF-3DDE-42E0-A20B-0324A6527D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0:51:54Z</dcterms:created>
  <dc:creator>Valkó Adrienn</dc:creator>
  <dc:description/>
  <dc:language>en-US</dc:language>
  <cp:lastModifiedBy>Békés Balázs</cp:lastModifiedBy>
  <cp:lastPrinted>2000-11-21T13:58:59Z</cp:lastPrinted>
  <dcterms:modified xsi:type="dcterms:W3CDTF">2003-05-11T14:36:12Z</dcterms:modified>
  <cp:revision>66</cp:revision>
  <dc:subject/>
  <dc:title>No Slide Title</dc:title>
</cp:coreProperties>
</file>