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9A62-6D8F-4928-BD50-DCAB1AFCDD30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4800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53352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 KÖLTSÉGVETÉSI TÁMOGATÁSOK TÍPUSA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066680" y="4800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38080" y="76212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6D95-1BE9-4A83-92CC-673E40216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498B-AA15-4976-AF40-534F603F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3507-0E28-4D48-8CA6-1C677FBA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6335-A87A-419A-A2A0-3CCBAB345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EBE5-1AE0-4706-9509-A30178D8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3615-7F27-4615-8231-E2874B6F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B3B7-BD37-458C-87C7-39DFE881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467D-5397-4036-AA88-64FC3AB5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788E-97E4-47BD-B159-06D3829E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5FF2-7CF2-410E-9A71-19EF886D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7483-3FF1-4E9E-828C-3694D3F5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2BC9-C5AC-4561-988E-CB7CFA60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2CC9-531F-41A5-A655-C38DAB853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Pénzügyi jog repetitor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z adórends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z adó jogi értelem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) Az adó az állam, vagy önkormányzat és az adóalany közti </a:t>
            </a:r>
            <a:r>
              <a:rPr b="0" lang="hu-HU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tikális viszony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) Az adó </a:t>
            </a:r>
            <a:r>
              <a:rPr b="0" lang="hu-HU" sz="2400" spc="-1" strike="noStrike" u="sng">
                <a:solidFill>
                  <a:srgbClr val="000000"/>
                </a:solidFill>
                <a:uFillTx/>
                <a:latin typeface="Times New Roman"/>
              </a:rPr>
              <a:t>az adózó gazdasági tevékenységéhez, jövedelmi-vagyoni helyzetéhez igazodi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. A jövedelemelvonás az adójogi </a:t>
            </a:r>
            <a:r>
              <a:rPr b="0" lang="hu-HU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rma diszpozíciójában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fogalmazódik meg, nem a szankciób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) Az elvonás feltételeinek meghatározása </a:t>
            </a:r>
            <a:r>
              <a:rPr b="0" lang="hu-HU" sz="2400" spc="-1" strike="noStrike" u="sng">
                <a:solidFill>
                  <a:srgbClr val="000000"/>
                </a:solidFill>
                <a:uFillTx/>
                <a:latin typeface="Times New Roman"/>
              </a:rPr>
              <a:t>absztrakt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 általános, nem meghatározott személyhez szó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) Az </a:t>
            </a:r>
            <a:r>
              <a:rPr b="0" lang="hu-HU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agi és eljárási normák együttesen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 egymást feltételezve határozzák meg a jogviszonyok alanyainak tényleges jogait, kötelezettsége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) Az adó sajátossága az </a:t>
            </a:r>
            <a:r>
              <a:rPr b="0" lang="hu-HU" sz="2400" spc="-1" strike="noStrike" u="sng">
                <a:solidFill>
                  <a:srgbClr val="000000"/>
                </a:solidFill>
                <a:uFillTx/>
                <a:latin typeface="Times New Roman"/>
              </a:rPr>
              <a:t>ellenszolgáltatás hiány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 a kényszer és az alá-, fölérendeltségi viszo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2) 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6182-B1E5-4090-B3ED-5D1097BA9CC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7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költségvetési és adóviszonyok összefüggés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adózási és költségvetési viszonyok a szoros összefüggés ellenére nem vetíthetők közvetlenül egymás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adóbevétel jogosultja az államháztartás valamelyik alrendsze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adózó jogait és kötelezettségeit nem érinti, hogy az adóból származó bevétel, vagy a költségvetési támogatás melyik alrendszert illeti meg, vagy az terhe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2895480"/>
            <a:ext cx="7315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élda: az adóhatóság nem utasíthatja el az adómérséklésre irányuló kérelm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on a címen, hogy anélkül felborulna a költségvetés egyensúly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2) 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B90D-2DB6-4E21-A5FA-4F5873823C4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7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költségvetési támogatá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költségvetési támogatások funkció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gazdaságpolitikai (vállalkozások támogatása), vagy szociálpolitikai (magánszemélyek támogatás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őbb jellemző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az államháztartásból eredn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alacsony törvényi szabályozotts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nem az állam közjogi rendszerén át kerül elosztás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célhoz kötöt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2) 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42B6-FB89-4D99-A555-349E37F0B50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7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öltségvetési támogatások és adópreferenciá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egfontosabb támogatások normatív jellegűek, ezek igénylése, kiutalása, ellenőrzése az adóhatóságok közreműködésével történi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z adókedvezmények és az állami támogatás határai egyre inkább elmosódnak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2) 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0829-0EBE-48BD-ACCA-F635CFC91B8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7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költségvetési támogatások típus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Tágabb értelemben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 az államháztartáson belüli átcsoportosítá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Szűkebb értelemben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 valamely alrendszer költségvetéséből az államháztartáson kívülre nyújtott források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Szubvenc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Állami támogatás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(state a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Közvetlen támoga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Közvetett támoga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támogatás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forrását tekintv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 központi költségvetési, önkormányzati, elkülönített állami pénzalapból származó támogatá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2) 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E682-45D9-4640-991E-06042C7A2EB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7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z adó fogalmának kiterjesztése a tételes jogban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Times New Roman"/>
              </a:rPr>
              <a:t>Az adó fogalma az Art.-ban: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dó a központi költségvetés, az elkülönített alap vagy az önkormányzat javára teljesítendő, törvényen alapuló kötelező befizeté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Times New Roman"/>
              </a:rPr>
              <a:t>Ezek közül nem minősülnek adóna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vám, vámbiztosíték, a termékimportot terhelő befizetése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adók módjára behajtandó köztartozáso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2) 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E198-DC37-4E78-80FA-658A5CA8E1C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7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z adó fogalmának kiterjesztése a tételes jogban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ónak minősülne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z illeték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z elkülönített alapok javára teljesítendő kötelező befizetések közül: a munkaadói járulék, a munkavállalói járulék, a rehabilitációs hozzájárulás, a szakképzési hozzájáru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z adóelőleg, a bírságok, a pótlékok, és az eljárási költség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íjak csak a végrehajtás tekintetéb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ársadalombiztosítási alapok javára teljesítendő bevéte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vízió előfizetési dí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2) 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30A6-C684-41E7-B310-47E174CF328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7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költségvetési támogatás fogalmának kiterjesztése a tételes jogban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költségvetési támogatás fogalma az Art.-ban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 a központi költségvetés, vagy az elkülönített állami pénzalap terhére törvényben meghatározott  feltételek alapján juttatatott támogatá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m minősül költségvetési támogatásna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) a helyi önkormányzatok által nyújtott támogatá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) adójóváírá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2) 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55B8-A214-41D4-97D2-A7E00C2896E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7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költségvetési támogatás fogalmának kiterjesztése a tételes jogban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Times New Roman"/>
              </a:rPr>
              <a:t>Költségvetési támogatásnak minősül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) a központi költségvetés terhére juttatott normatív támogatá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) az elkülönített pénzalapok terhére juttatott normatív támogatá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) adóvisszaigénylé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) adóvisszatéríté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) fogyasztói árkiegészíté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) egyes agrártámogatások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g) adó kérelemre történő visszafizet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2) 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572B-75AC-46D1-9BBC-D544C8B860D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7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z adórendszer fogal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z adórendszer egy adott országban egy adott időszakban működtetett adók összesség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2) 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9013-772D-43CF-9B92-D3FD0993856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7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z államháztartás bevétel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skális bevéte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államigazgatási jellegű bevéte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ánjogi bevéte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öltségvetési szervek tevékenységéből származó bevéte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mzetközi pénzügyi kapcsolatokból származó bevétel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2) 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5AB3-630E-419F-8F2E-2873CF513B4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7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z adók rendszerez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Az adóztatási jog szerint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: központi és helyi adó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b) Az 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adóbevételek felhasználása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szerint: központi, helyi, vagy más alrendszer által felhasználv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Adóalanyiság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szer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Teherviselés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szerint: közvetlen és közvetett adó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e) Az 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adóalany körülményeinek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figyelembe vétele szerint: személyi és tárgyi adó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Adóalap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szerint: alap-, és pótadó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Az adó mértéke szerint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:  adókulcs és adótétel alapján, vagy proporcionális és progresszív adók szer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Az adózás módja szerint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: önadózás, hivatalból történő adómegállapítás, adólevonás, adóbeszed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i) 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Az adózás módja szerint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: pénzben, bélyegben, természet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j) 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Az adófizetés időtartama szerint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: rendes és rendkívüli adó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k) 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Az adók rendszeressége szerint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: eseti és rendszeres adó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2) 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1957-BDE7-4F92-A3CB-B5536BE32D8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7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magyar adórendszer - adóreform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Az 1980-as évek elejéig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a lakossági és vállalati rendszer két eltérő adórendszerként működöt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Az 1980-as évektől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a korábban két elszigetelt adórendszert a kisvállalkozások harmadik adórendszere kapcsolta össz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1987-88. évi adóreform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. Bevezetik a személyi jövedelem adót, és a különféle forgalmi jellegű adók helyett az általános forgalmi adót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1991. évi második adóreform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. Társasági adó, átformált Szja, Áfa, fogyasztási adó. Ugyanekkor kialakult a helyi adók rendszere és átalakult az illetékrendszer i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1993-tól jövedéki törvény. 1995-től vámtörvények. 1997-től új jövedéki törvén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2) 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F78D-A320-4D0C-8FBE-3AD4415522C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7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z adóreformok főbb jellemző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éhány jellemző tendenc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közvetett adók növekvő szerepe a közvetlen adókkal szemb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 közvetlen adó adóalapjának kiszélesítése párhuzamosan az adókedvezmények szűkítésév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főadók, különösen a jövedelemadók kulcsának és a kulcsok számának csökkenté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 jövedelmek semleges adóztatá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z osztalékadó mérséklé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helyi adózás jelentőségének növelése, különösen a vagyonadók területé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z OECD országok tendenciá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lakossági megtakarítások kedvezményezé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hitelek adózási előnyeinek leépíté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 befektetések befolyásolásának csökkené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 munkajövedelmek és tőkejövedelmek újraszabályozá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környezetvédelmi szempontok erősíté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forgalmi adózás felé történő elmozdulá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z EU harmonizáció az unión kívüli országok adópolitikáját is befolyásolj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2)  - Halász Zsolt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686B-B2D2-4108-BAF5-E9626DEA918D}" type="slidenum">
              <a:t>2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7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magyar adórendszer szerkez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z adóbevételek között meghatározóak a főadók. A négy főadó adja a költségvetés bevételeinek 90%-át, vámokkal a 95%-á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őadó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llett vannak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llékadó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l. vagyonszerzési illetékek, é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ülönadó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l. kulturális járulé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2) 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EC2E-BA23-4C76-9E60-A3BB645CB15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7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z adóbevételek 1996-ban és 2000-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2)  - Halász Zsol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3669-C77E-497C-8730-1ACFAD271B4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7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z adóztatás korlát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Politikai korlát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Gazdasági korlát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 Fiskális korlát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) Pszichológiai korlát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) Jogi korlát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) Adóigazgatási korlát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2) 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B5E2-5B0F-443A-8D4E-B231C34164C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7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z adóellenállás formá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árom fő formáj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) adómegtagad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) adókikerü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) adókijátsz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2) 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7D7E-5FD5-490A-901A-58AD0A3B3BA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7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z adómegtagad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z adómegtagadás két fő indoka lehet a nem megfelelően elfogadott adótörvény, vagy az adótörvény tartalma és a hatáskör hiány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Első adómegtagadás: a polgárság követelése, hogy az adó törvényhez illetve közérdekhez kötődjön. Kérdés megengedi-e az alkotmány és a jog általában a polgári engedetlenséget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Magyarországi esetek: -  lakáskamatadó körüli engedetlenség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- taxisblokád - fogyasztási adó miat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A jog nem engedi meg a norma ésszerűségének megkérdőjelezését. Az adófizetés tömeges megtagadása azonban jelzés értékű, előbb-utóbb meghátrálásra készteti a jogalkotó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2) 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84D0-3CF9-4225-8FD2-F2D0103A123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7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z adókikerül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Az adókikerülé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z adóminimalizálá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legál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mája. Az adózó kihasználja a meglévő joghézagokat, konzisztencia zavarokat az adórendszerben a különböző adók között, vagy az egyes adók szintjén, és ezáltal minimalizálja adóterhét. Azon legális eszközök igénybe vételét jelenti az adóteher csökkentésére, amelyet a kormányzati adópolitika, illetve a jogalkotó nem kívánt az adózóknak lehetővé tenn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Az adómenekülé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z adókikerülés nemzetközi vetülete. Gyökerei az egyes nemzeti adórendszerek különbségeiből erednek. A tőkebefektetések ott kedvezőek, ahol adókedvezményt, vagy adómentességet kapnak. Legtipikusabb a lakóhely (székhely) áthelyezése kedvezőbb adóterhelésű országb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2) 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7558-7206-49BB-AAA0-C6DDC7DCC06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7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z adókijátsz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ókijátszá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törvény megsértését feltételezi, tehát az adókötelezettség illegális eszközök igénybevételével történő megsérté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m szűkíthető le az adójogszabályok büntető jogi megsértésére, az adócsalásra, vagy más bűncselekményre, amely az adómenekülést szolgálja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2) 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675B-9391-45CD-A0C0-DA132C9F597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7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közbevételek (fiskális bevételek) fajtá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-457200" algn="just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ó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ám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leték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zdasági szolgáltatások dí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árulékok és hozzájáruláso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írság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2) 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D089-7708-4D7D-88DB-524E61F2084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7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z adótervez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zdaságossági számítások alapjá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óoptimalizálá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lent, azaz a különböző adófizetési kötelezettségek és a jövedelmezőség olyan kombinációját, amely a váll. számára az adott feltételek között a legkedvezőbb eredménnyel já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z adótervezés az egyes adózók válasza az adópolitikai döntésekre, és azok végrehajtásá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egkedvezőbb üzleti stratégia megválasztás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egkedvezőbb szervezeti forma megválasztás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z értékesítés célszerű méretének meghatározás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egkedvezőbb szerződéstípus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2) 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573E-AEF1-40F1-8442-D22F1447CEB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7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közbevételek (vámo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ám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galmi adó jelleg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ötelezettségek, sajátossága, hogy az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áru importforgalmáho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ötődi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vámteher fogalmába tartozi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rmékimportot terhelő Áf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ámigazgatási illetékek, díjak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galmi adó a vámbiztosíték tekintetéb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ámpótlék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ömpingellenes vá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értékkiegyenlítő vá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2) 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5F88-F17A-4775-91BF-CBAF01F1C6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7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közbevételek (illetéke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 u="sng">
                <a:solidFill>
                  <a:srgbClr val="000000"/>
                </a:solidFill>
                <a:uFillTx/>
                <a:latin typeface="Times New Roman"/>
              </a:rPr>
              <a:t>Illetéke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 ha az egyén vagy szervezet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állami szerv nem gazdasági természetű ellenszolgáltatását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veszi igényb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jtái: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 u="sng">
                <a:solidFill>
                  <a:srgbClr val="000000"/>
                </a:solidFill>
                <a:uFillTx/>
                <a:latin typeface="Times New Roman"/>
              </a:rPr>
              <a:t>vagyonszerzés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és </a:t>
            </a:r>
            <a:r>
              <a:rPr b="0" lang="hu-HU" sz="2400" spc="-1" strike="noStrike" u="sng">
                <a:solidFill>
                  <a:srgbClr val="000000"/>
                </a:solidFill>
                <a:uFillTx/>
                <a:latin typeface="Times New Roman"/>
              </a:rPr>
              <a:t>eljárás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illetékek. Az eljárási illetéket  a szolgáltatást igénybe vevő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 nem a közszolgáltatásért, hanem az eljárásért fizet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 amely eljárás lefolytatása nem függ az illeték lerovásátó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 az illeték összege és az eljárásból származó anyagi előny között nincs szoros összefüggé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 az eljáró szervek működése független az illeték mértékétő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2) 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3718-6761-4858-A3B9-A006B33A0B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7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közbevételek (díjak, járulékok, bírságo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zdasági szolgáltatások díj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andíj, kamarai díjak, egyéb szolgáltatásokért járó díj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árulék és hozzájárulá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z elkülönített alapok és társadalombiztosítási alapok céladóinak elnevezé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írság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államigazgatási jellegű bevételek, vagy a fiskális közbevételek nem-teljesítésének pénzügyi szankció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2) 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82DC-DADD-4DAE-842A-4F85E30741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7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z adó és az adóviszony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ó hatalmi-vagyoni viszo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özszükségletek fedezésé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étrehozot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agyoni mozgá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mely a modern államban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özpontosított újraelosztá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gfontosabb eszkö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2) 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61D1-63BB-470D-9996-9FB92B9625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7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z adóztatás jo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énzügyi szuverenitás: az adóztatás az állam kizárólagos jog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z adóztatási jogosultság más mint az adóbevételekből való részesedé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2) 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9E70-CB57-4D2C-BEF2-4CFF17295B3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7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z adó materiális értelem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z adó materiális értelemben az állam és a természetes személyek között pénzbeli közvetítéssel létrejött kapcsolat, amely egyidejűleg a társadalom különböző csoportjai között is kapcsolatokat keletkezt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petitorium (2)  - Halász Zso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4B3A-6A65-4427-97CD-053489F7C4A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. október 7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6T12:04:36Z</dcterms:created>
  <dc:creator>Halász család</dc:creator>
  <dc:description/>
  <dc:language>en-US</dc:language>
  <cp:lastModifiedBy>MFB Rt.</cp:lastModifiedBy>
  <cp:lastPrinted>2001-09-16T15:13:29Z</cp:lastPrinted>
  <dcterms:modified xsi:type="dcterms:W3CDTF">2002-10-28T10:14:47Z</dcterms:modified>
  <cp:revision>17</cp:revision>
  <dc:subject/>
  <dc:title>Pénzügyi jog repetitorium</dc:title>
</cp:coreProperties>
</file>