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205E-881E-418C-A808-7369D24A9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B1DA-9DF4-4A77-911B-FAB2E2033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62B3-FA8A-4CB0-B3B6-23428A304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4AB5-E5BF-47C9-8CE2-309A9FF5E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A2DE-2528-4790-8964-D581E1CB1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C59D-1E7E-48CD-9E6B-5AF2DFE7E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6498-834F-432A-890C-8EF6AE0AA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212D-63C3-4116-9D6A-20734392A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B8B2-42ED-4CEA-ADCB-44011A208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D266-394F-44CF-BF11-1F939DD93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9E89-BDA2-4111-A5CA-B06E618C1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FC31-883B-44B1-A33E-30BA28482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69DA4-5618-4ECE-A8D4-E939032733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Pénzügyi jog repetitoriu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z adózás rend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z adófizeté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Főkötelezettsé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Megfizetési köt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lezettsé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ha az eredeti kötelezett nem fizet, az adó tőle nem lehet behajtani, határozattal történi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z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dőponto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z Art. határozza meg. Határozat esetén a jogerőre emelkedéstől számított 15 napon belül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Módj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átutalás, vagy postautalván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lszámolás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z adózó adószámláján, adónként és befizetésenké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petitorium (3.) - Halász Zsol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5CFC-B824-4913-BC1D-4483F992732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. október 14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bizonylat kiállítás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gy kell kiállítani, hogy az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dóala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dóössze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mentessé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kedvezmé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 költségvetési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ámogatá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lapj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össze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és ezek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megfizeté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llenőrizhető legy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és a feljegyzések a jogszabályon alapuljanak, folyamatosan tartalmazzák az adatokat, kitűnjön belőle az adó alapj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galma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r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zonylati fegye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zonyl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Őrzésre köteleze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petitorium (3.) - Halász Zsol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C3D0-E7FF-4640-BF4D-B4558F58DD2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. október 14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yilatkozattétel és tanúvallomá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yilatkozattétel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sak az adózó kötelezhető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núvallomásr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z adózónak nem minősülő magánszemély is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nyilatkozattétel történhet írásban 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petitorium (3.) - Halász Zsol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5A8E-4B09-4756-84F9-9B04DE9F6C3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. október 14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atszolgáltatá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rendszeres tájékoztatás alapja. Legfontosabb kötelezettek: kifizető, és a munkáltató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Munkáltató bevallj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 kifizetett teljes összeget, adóelőleget, a csökkentő tételeket, megállapított adó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Kifizető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z általa kifizetett az adóalapba beszámító teljes összeget, az általa juttatott vagyoni értékeket, és az egyes külön adóztatott jövedelmeke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petitorium (3.) - Halász Zsol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E510-33A3-4680-840C-D6FC1155FDB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. október 14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Adómegállapítási mód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ózó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önadózással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fizető és munkáltató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dólevonással, adóbeszedéssel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óhatóság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kivetéssel, kiszabással, utólagos adómegállapítással, azonnali ellenőrzésse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ónként, támogatásonként, a t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ö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vényben előírt időszakonként kell megállapítan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petitorium (3.) - Halász Zsol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F91C-EB9F-4719-A3C5-93BF42DA45D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. október 14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Önadózá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z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óz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z adót (támogatást) köteles megállapítani, bevallani, megfizetni a hatóság közvetlen részvétele nélkü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petitorium (3.) - Halász Zsol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013A-B3DF-4B57-B177-0DF75E37C16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. október 14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ólevoná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ó, és adóelőleg megállapítá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és levonást jelent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ötelezettje: kifizető és munkáltat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petitorium (3.) - Halász Zsol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68FA-3B89-40F6-A5D1-AEFF5EDF24CF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. október 14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ókiveté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Önkormányza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dókivetéssel állapítja me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yi adó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a vállalkozók kommunális adója, a helyi iparűzési adó és az idegenforgalmi adó kivételével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s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épjárműadó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Bevallás alapján határozatban történik az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ókiveté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Vámhatósá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a vámmal együtt kivetésre kerülő adókat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petitorium (3.) - Halász Zsol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68A4-5465-422A-A3B3-89CDBC3B08B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. október 14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iszabá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letékhivat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z eljárási és vagyonszerzési illeték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téré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kivetéstől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az Illetékhivatal jár el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nem bevallás, hanem bejelentés alapján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kiszabás kizárólag illeték megállapítására irányu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petitorium (3.) - Halász Zsol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BB00-CCEE-48A8-93C2-50AAF521A89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. október 14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óbeszedé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kifizető és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beszedésre kötelezet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ö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én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rejénél fogva köteles az adó megállapítására az adóalany helyett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m juttat bevételt, hanem pénzt vesz el az adóalanytól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kalmazása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lyi idegenforgalmi ad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petitorium (3.) - Halász Zsol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B39D-2BDF-43BD-A151-A1AB516A360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. október 14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z adózási folyamat jogi szabályozása, alapfogalma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Jogi szabályozás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dózás rendjéről szóló törvény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(Art.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ll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m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g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zgatási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ljárás szabályai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 (Áe.)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írósági végrehajtásról szóló t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örvény (Vht.)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mzetközi adójogi normák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 (törvénnyel kihirdetett nemzetközi szerződések)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Fogalmak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dózás, adóeljárás, adóigazgatási eljárás, adóügy, adóigazgatá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petitorium (3.) - Halász Zsol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7F23-BA65-402C-95AC-F2573980BE1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. október 14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Feltételes adómegállapítá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LTÉTELEI: az adózó kérelmére, részletes tényállás alapján, csak előzetesen. Az adóhatóság megállapítja az adót. (Köti is változatla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ényállá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ellett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NCS HELYE: valótla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ényállá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etén, ha hiányos, nem konkrét, ha valamit leplez, ha egy már elutasított határozattal egyezik, jogszabályváltozás eseté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KALMAZÓJA: Pénzügyminisztérium (kizáróla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petitorium (3.) - Halász Zsol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9434-7F6C-4771-BD0E-5A48334EE687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. október 14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Önellenőrzé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Az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dóalap, a feltárt adó, a költségvetési támogatás, és az önellenőrzési pótlék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mértékének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gállapítása,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valamint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helyesbített adóalap, adó, támogatás, és pótlék bevallása, és egyidejű megfizetése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Feltétele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: - csak önadózással megállapítót adó eseté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-  hatósági ellenőrzés megkezdése után nem lehetség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a tévesen bevallott és a helyesbített adót megállapítani, bevallani és a különbözetet megfizetni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az önellenőrzési pótlékot is meg kell fizetni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petitorium (3.) - Halász Zsol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6A45-9801-42BF-98A7-E2C494EB0B64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. október 14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ótit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dódat kezelé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célhoz kötve, ha képes a cél elérésére, a szükséges ideig és mértékb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dótito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z adózást érintő tény, adat, körülmény, határozat, igazolás, ira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Jogszerű felhasználá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- érintett hozzájárulásával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törvényi engedéllyel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ha ellenőrzés, adóig. eljárás lefolytatását szolgálj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emelkedő adóhiány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bejelentkezési kö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zettsé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egsértése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fantomvállalkozások nyilvántartásból való törlé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petitorium (3.) - Halász Zsol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69D3-7ECC-488A-A363-E363BB8A04F7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. október 14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óellenőrzé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z adóhatóság ellenőrzi az adókötelezettség teljesítését az adóbevétel jogellenes megrövidítésének, a költségvetési támogatás jogosulatlan igénybevételének megelőzése, megakadályozása érdekéb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zárul: adókötelezettség megsértésének megállapításával, il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t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jogszerű eljárás megállapításával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atároza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petitorium (3.) - Halász Zsol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4A60-6A0B-4B97-BC4E-B17C092AA081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. október 14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óigazgatási eljárás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tólagos adómegállapítás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zonnali ellenőrzés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tósági megállapítás bejelentés, bevallás alapján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ó soron kívüli megállapítása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zetési könnyítés engedélyezése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ómérséklés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ogorvoslatok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égrehajtási eljárás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dó feltételes megállapítása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petitorium (3.) - Halász Zsol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02CB-9D7B-49F2-9C30-265066014F18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. október 14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évülé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z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ó megállapításához való jo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nnak az évnek az utolsó napjától számított 5 év elteltével amikor az adóról bevallást kell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olna tenn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égrehajtáshoz való jo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z esedékesség naptári évének utolsó napjától számított öt év elteltév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yugszi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dóhatósági határozat bírósági felülvizsgálatakor, eljárás felfüg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ztések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fi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és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alasztás, részletfizetés, fi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és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ed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zmé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és feltételhez kötött adómentesség időtartama alat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gszakítj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llenőrzés, önellenőrzé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petitorium (3.) - Halász Zsol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1E36-2CB4-4C77-A874-64A5BEAF632D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. október 14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zankció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ésedelmi pótlé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Önellenőrzési pótlé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óbírsá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asztási bírsá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ézkedés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petitorium (3.) - Halász Zsol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5643-0F2C-4C0D-B88B-125C84B3B13E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. október 14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z adózási folyamat szakasza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dózói „aktív” szakasz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az adózó cselekményei (bevallá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dófizeté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énzügyi ellenőrzé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adóhatóság ált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dóigazgatási eljárá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adóhatóság eljárás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özigazgatási p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bíróság előt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petitorium (3.) - Halász Zsol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D1A5-95B0-4FC3-9CB0-C7759062E53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. október 14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z adóz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zemély fogal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zeméllyé válás feltétele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Z ADÓZÓK CSOPORTJA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nkáltató, kifizető, adóbeszedésre kötelezet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atszolgáltatást, bizonylat kiadását végző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lszámoló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zes és a tartozásátvállaló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yilatkozattételre, vagy tanúvallomásra kötelezet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petitorium (3.) - Halász Zsol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444D-DB33-4EDB-9F9F-4D1B0C59372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. október 14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ózói kötelezettsége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-528120" algn="just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jelentés, nyilatkozattétel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 algn="just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ómegállapítá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 algn="just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vallá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 algn="just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ófizetés, adóelőleg fizeté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 algn="just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zonylat kiállítása, megőrzés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 algn="just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yilvántartás vezeté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 algn="just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atszolgáltatá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 algn="just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ólevonás, beszedé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petitorium (3.) - Halász Zsol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941B-F655-4BD0-9894-43D3FD20AE9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. október 14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ózói jog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apelve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közü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örvé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lőtti egyenlősé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gyenlő elbáná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vábbi adózói jogok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gorvosl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z való jo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étszeres ellenőrzés tilalma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önellenőrzéshez való jo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ájékoztatáshoz való jo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éltányossághoz való jo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ratbetekintéshez való jo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petitorium (3.) - Halász Zsol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4BA1-3548-466D-B5F3-3205ADF7678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. október 14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óhatóság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EH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özponti költségvetés bevételét képező adók, TB befizetések, költségvetési támogatások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POP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ámok, jövedéki ad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yi önkormányzat jegyzőj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elyi és gépjárműadó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letékhivata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lleték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petitorium (3.) - Halász Zsol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15A5-F91B-416E-89FE-A278E780F2E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. október 14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bejelenté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jtá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állalkozók bejelentése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bejelentkezés mene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Áfa alany bejelentkezé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lleték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lyi adó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bejelentések módosítá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petitorium (3.) - Halász Zsol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7111-1E7A-4FC2-A861-B29FDF55B54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. október 14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bevallá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ónként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öltségvetési támogatásonként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ózási időszakonké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ülön-külön önállóan történi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petitorium (3.) - Halász Zsol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5963-F620-4202-8183-E759CCDFDDA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. október 14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0T15:40:28Z</dcterms:created>
  <dc:creator>MFB Rt.</dc:creator>
  <dc:description/>
  <dc:language>en-US</dc:language>
  <cp:lastModifiedBy>MFB Rt.</cp:lastModifiedBy>
  <dcterms:modified xsi:type="dcterms:W3CDTF">2002-10-28T10:10:48Z</dcterms:modified>
  <cp:revision>8</cp:revision>
  <dc:subject/>
  <dc:title>Pénzügyi jog repetitorium</dc:title>
</cp:coreProperties>
</file>