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FD91-9E2D-4906-9378-DB6C945FCB2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JOG FOGAL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F259-F181-40D5-B9D1-B22F332F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AC4-6DEE-4517-A2BF-6E7C80CB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FF36-7279-4766-867F-90026627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E58-1CC1-43AA-9609-DE906931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29E-C80A-445B-A286-24760F6F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E06-98C5-43CC-8457-D0056E91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BE8-F337-4E41-A240-0CFB8896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1071-3D7C-4416-A648-BE97B34A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7B2-4926-4CDA-8F22-B7DC7F0E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885-3869-426F-93CA-0619F6AD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506-378F-43C0-863C-B2A47741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ABA-007E-4A5D-BD2E-D9FE3239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B30B-C5A2-4B50-8374-E95978BAF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nzügyi jog repetito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adójog alap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adózás alkotmányos alpelv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ltalános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étminimum adómentessé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yenlősé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ányos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0BB-0951-40D5-BA83-6874A36BB5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zás eljárási alapelv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li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örvényesség és az eredményesség együttes érvényesí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ztatás egységessé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érlegelés e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ltányos eljárás e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különböztetés tilal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zó tájékoztatáshoz való jo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óhiszemű joggyakorlás és együttműködés kötelezettsé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rződések tartalma szerinti minősítés e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B347-0B3F-4223-BA77-A643AC9A1C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tényál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knak a személyi és tárgyi feltételeknek és sajátosságoknak az összessége, amelyek az adókötelezettség megvalósulásához szükséges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FB2-1D58-4C01-9E57-475C20B4253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tényállás elem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fontosabb tényálláseleme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alan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tárg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alap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mérté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mentessé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kedvezmé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481-B647-4B6F-B11F-46488BAC42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alany és más személ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emélyek négy csoportj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Adóalanyok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dózók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Az adó megfizetésére kötelezettek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Akikre az adótörvények különböző jogokat és kötelezettségeket telepítene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E0D-E7D6-4C45-B0EF-3BEBD8668D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al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alany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kik az anyagi jogi adókötelezettség alapjául szolgál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nyállást megvalósítjá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s akiket az anyagi jog norm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zetési kötelezettség (mint főkötelezettség) címzettjeké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gjelöl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csolódó kérdése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óalanyiság – magánjogi jogalanyisá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ődleges és másodlagos adóalanyisá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yéni csoportos és szervezeti adóalanyisá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153-BA25-469E-A662-83B3BD3FFD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gyetemlegesség, kezesség tartozásátválla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ózói egyetemlegessé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bban tér el a polgári jogitól, hogy nem feltétel az oszthatatlanság, és csak akkor alkalmazzák, ha a kötelezett nem teljesí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zessé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ét konjunktív feltét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dótörvényi rendelkezé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dóhatósági jóváhagyá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rtozásátvállalá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zabályai u.a. mint a kezességvállalásn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154-EE3A-4FD9-9D8D-61D78DD5F0E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ető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ális szabály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ánszemélyek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ervezetekre, vállalkozások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29C-FB18-432C-9FF7-8447988CD9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kötelezett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kötelezettség akkor keletkezik, ha a tényálláselemek megvalósulna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kötelezettség a vagyoni jellegű főkötelezettségből, és a nem vagyoni jellegű mellékkötelezettségekből ál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1ED-4FCA-4DE2-B0E2-5B071DFF38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tá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tárgy az a fizikai objektum, dolog, jog, jogviszony, tény, amelyre az adózás irány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61B-BBAE-402F-9F2B-C94545A08E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jog fogalm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jog az adókat szabályozó anyagi és eljárási normák, valamint a normák alapján keletkező jogviszonyok összessé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79CC-FA0B-4806-ACBC-8078280D6F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a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tárgynak pénzzel, vagy más természetes mértékegységgel kifejezett mennyisége, amelyből az adókulcs, vagy adótétel alkalmazásával az adó összege meghatározhat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BCF9-B46E-4148-81EA-42F031744D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mérté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mérték az a mennyiség, amely az adó összegének az adó alapjára való vetítéséből keletkezi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5F9-44FC-48DE-85FD-3D7DE40E9F5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mentessé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könnyítések egyik formája. Az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ztrakt jogviszony létrejö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adótárgyban, vagy az adóalanyban rejlő ok miat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 válik konkrét jogviszonny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m keletkezik tényleges fizetési kötelezettsé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E65-9686-4CB8-A264-8EA2A8F06CF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ókedvezmé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ztrakt jogviszony mellett létrejön a konkrét jogviszony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 a fizetési kötelezettség mérsékeltebb összegű, mint az általánosan előí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érté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5C3-F0E1-412D-9D40-9A95C163BA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jogi n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erkezetét a hipotézis, a diszpozíció és a szankció együttes jelenlétével jellemz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 adójogi norm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a tényállást megszemélyesítik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 az adó mértékét nem jogszabály tartalmaz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9B46-0021-4EF7-A8DD-E4101E1424E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tály az adójog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árgy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üle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zemély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őbe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659-447D-4399-A349-00374E13F9F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ójogviszony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jogszabály önmagában nem hoz létre adójogviszonyt. A normák csak a keretfeltételeket jelent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jogviszonyok két fő típusa az anyagi és az eljárási jogviszony a valóságban rendszerint összefonódik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802-9628-41CD-8A74-AAD5F35A21D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z adójogviszonyok alanya, tárgya, tartal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agi: adóalany és az adóztató közhatalo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járási: adózó és az adóhatósá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rgy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mberi magatartá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tárgy az adójogviszony közvetett tárgy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tal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zon jogok és kötelezettségek, amelyek a jogviszony. alanyait megilleti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8B8-D8BA-46F5-851B-707C57C6D7A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lelősség az adójogb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jogi felelősség, mint a jogsértésért való helytállási kötelezettség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ogellenes magatartá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özpénzügyi érdekek sérelmé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s a kettő közti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kozati összefüggé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ltétele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959-EF45-4BC6-9572-0F846BBE7E5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z adójog és a magánj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dójog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áépül a tulajdoni viszonyok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incs önálló értékrendsz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dójogi normák önmagukban nem érvényesül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nstitutí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agánjog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iszpozitív szabály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abályai a jogviták feloldását szolgálj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jogviszonyok tartalma szabadon alakíthat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em konstitutí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0F6-BFF2-491A-8D51-389DA60223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ójogalko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ényálláselemeket a törvény határozza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galkotás szerepe aktív a jogfejlesztés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yakori változ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136A-D514-476D-AE36-E95B3283D6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z adójog jogforrási sajátosság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szabályozás eleme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tmá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galkotási 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örvé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lamháztartási törvé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törvény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má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del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zte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dele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yi adójogalko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1EF-E438-4442-A6AD-EE0066F0F9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lyi adójogalko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tmány 44/A. §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elyi önkormányzatok adóztatási j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apjo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elyi képviselő testület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yi adókról szóló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rvé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retei közt megállapítja helyi adók fajtáit, mértékét, de ez nem lehet ellentétes a törvénnye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B9B-0349-481D-BEF9-EFDEA9EC6B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z önkormányzatok adóztatással összefüggő jog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yoni típusú, kommunális és helyi iparűzési adót vezet be hatályon kívül helyez, módosí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bevezetésének időpontját és időtartamát meghatározz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 mértékét a törvényi maximumra figyelemmel megállapítj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örvényi mentességeket kibővíthet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yi adózás részletes szabályait meghatározza a 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örvé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retei köz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DFA6-F170-4B09-B879-6D23F1EDCC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z adójog értelmezé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rtelmezési módszerek: nyelvtani, logikai, történeti, rendszertani, és teleológ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zó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ál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gszabályi értelme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galkotói értelme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M feltételes adómegállapítá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galkalmazói értelme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teles értelmez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és: </a:t>
            </a:r>
            <a:r>
              <a:rPr b="0" lang="hu-H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ak a bírósá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C6C-94E2-4125-89B7-49B73DABCB7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z adózás alkotmányi szabályoz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lkotmányi szabályozásban a következő csomópontok rajzolódnak 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zói minőség tarta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zók kö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zás tárgy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jedel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ve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ó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 konstituálására jogosultak kö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zás költségvetési összefüggés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1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EEE-17C8-4BC9-B4A5-E3659D23BB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szeptember 3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5:22:41Z</dcterms:created>
  <dc:creator>MFB Rt.</dc:creator>
  <dc:description/>
  <dc:language>en-US</dc:language>
  <cp:lastModifiedBy>MFB Rt.</cp:lastModifiedBy>
  <dcterms:modified xsi:type="dcterms:W3CDTF">2002-10-28T10:11:50Z</dcterms:modified>
  <cp:revision>7</cp:revision>
  <dc:subject/>
  <dc:title>Pénzügyi jog repetitorium</dc:title>
</cp:coreProperties>
</file>