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063D-C8F1-4BCE-B055-AC89D268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44FC-1072-474A-9BF2-7CBB8E88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2EBF-E777-46C4-AF77-F5B79E31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4582-35F6-4BE4-BEC2-5CCA921A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5CA0-FD4A-43F6-A496-62F0BB75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BF37-CDD2-4383-ADF0-BB9A53EF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F196-3BF8-4BB0-8CEE-385B1722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B027-E70E-49C5-BBAB-452D504A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773D-3592-48A4-8A50-FFB53882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5C6A-F201-481C-BDB9-F23F43CD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6CE1-21D2-4FF7-8479-605C4DA9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54B8-CFF7-4920-8170-C216B193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5DB5-9B38-4C4D-8538-5101223E1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énzügyi j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petitorium 1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2F3E-2ACA-4D28-9488-EDD0DD0E9A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kiadási oldal legfontosabb tétele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ltségvetés kiadási oldala első sorban az intézmények fejezeteire oszli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mely fejezete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öntően az intézmények adminisztrációs, működési kiadásainak fedezetéül szolgáló előirányzatokat tartalmazna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zösség politikai céljai, műveletei fedezetéül szolgáló előirányzatok nem önálló részben, hanem a Bizottság fejezetben találhatók. Ebben a fejezetben a Bizottság operatív működését fedező előirányzatokon túl az alábbi hét fő kategóriára oszlanak a közösség politikáinak finanszírozására szolgáló előirányzato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mezőgazdasá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strukturális alapok és kohéziós politik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strukturális és kohéziós politikán kívüli belső politiká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külső – harmadik államokkal kapcsolatos – művelete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bővítés előkészítésének finanszírozás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dminisztrációs előirányzato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tartaléko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A0FB-FDB2-403B-99A9-D0C63DCCD6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ezőgazdasági kiadások 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zös mezőgazdasági politika a közösségi politikák legköltségesebb szeletét alkotja. A közös mezőgazdasági politika céljai közé tartozik 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zőgazdaság versenyképességének növelés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zőgazdaságból élő népesség számára megfelelő életszínvonal biztosítás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acok stabilizációj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z ellátás és a fogyasztók számár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felelő árak biztosítás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továbbá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zőgazdasági árak világpiaci árakhoz való közelítés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ékfejleszté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öbblettermelés csökkentés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rnyezet védelm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s új tevékenységek, mint pl.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izmus fejlesztés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zös mezőgazdasági politika finanszírozásának közvetlen eszköze az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ópai Mezőgazdasági Orientációs és Garancia Alap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MOG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A30A-378F-44B1-AE1A-FACC579190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ezőgazdasági kiadások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EMOGA két fő részre oszlik. 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ancia Részbő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anszírozzák többek között az export-támogatásokat, az agrárpiaci rendtartások kifizetéseit, vagy a piaci támogatásokkal együtt járó vidékfejlesztési eszközöket. Az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entációs Részbő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anszíroznak a vidékfejlesztésre vonatkozó minden, a Garancia Részből nem fedezett kifizetést, amely egyszerűbben megfogalmazva a mezőgazdaság szerkezetátalakításának finanszírozását jelent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ltségvetésben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arancia Rész kiadásai szerepelnek a Mezőgazdaság címszó alat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z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entációs Rész kiadásai pedig a Strukturális politika címszó alat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B693-92C4-455A-87D6-0CEFB7E456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ális és kohézió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adá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gionális politik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olidaritás közösségi elvének gyakorlati megvalósulás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z Unió fontos célj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ejlettségbeli különbségek csökkentés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z elmaradott tagállamok és fejletlenebb régiók társadalmi és gazdasági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lzárkózásána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ősegítése, amelyet a regionális politikán keresztül valósít meg. A fejlesztés és felzárkózás érdekében a tagállamok és/vagy a régiók a közös költségvetésből különféle támogatásban részesül(het)nek. E támogatásokat – amelyek a költségvetés második legnagyobb kiadási egységét jelenti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az Unió 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ális alapokbó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s 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héziós alapbó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lyósítj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E356-049B-40BB-8AC8-F58A99C904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rukturális politika eszköze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elmúlt évtizedek során négy strukturális alapot hoztak létre a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regionális politikai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élok elérése érdekéb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ópai Regionális Fejlesztési Alap (ERFA)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ső sorban az elmaradott, a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zdasági változások alatt álló és strukturális nehézségekkel küzdő régiók támogatásában működik közr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célja a regionális különbségek csökkentésével és a régiók fejlesztésével elősegíteni a gazdasági és társadalmi kohézió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z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ópai Szociális Alap (ESZA)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alkoztatás elősegítésének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s a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nkanélküliség csökkentésének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ntos eszkö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z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ópai Mezőgazdasági Orientációs és Garancia Alap (EMOGA) Orientációs része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elynek alapvető rendeletetése a mezőgazdaság strukturális problémáinak kezelése és a vidékfejlesztés finanszírozás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ászati Orientációs Pénzügyi Eszköz (HOPE)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dig a halászati szektor finanszírozásának eszköze, céljai közé tartozik a halászati szektor versenyképességének elősegítése, valamint a halászati kapacitások és a rendelkezésre álló természeti források közötti egyensúly fenntartá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D81E-81A2-4F49-B7ED-BEA3FB7CC7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rukturális alapok finanszírozási célkitűzése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2000-2006 közti költségvetési tervezési időszakra a strukturális alapok számára 3 fő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szírozási célkitűzést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gadtak 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1. célkitűzés: az elmaradott, az EU átlagos GDP-jének 75%-ánál kevesebb GDP-vel rendelkező térségek, illetve a távoli régiók (pl. a francia tengeren túli megyék, a Kanári-szigetek), valamint a gyéren lakott területek fejlesztésének elősegítése, gazdaságuk modernizálása (érint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eszközök: ERFA, ESZA, EMOGA Orientációs rész és a HOP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2. célkitűzés: strukturális nehézségekkel küzdő régiók (hanyatló vidéki területek, krízisben lévő városi területek, határ menti régiók) gazdasági és társadalmi átalakítása (érintett eszközök: ERFA, ESZ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3. célkitűzés: az oktatási, képzési és foglalkoztatási politikák és rendszerek (munkanélküliek és pályakezdők támogatása, az oktatáshoz való hozzáférés egész életen át való biztosítása) modernizációja (érintett eszköz: ESZ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F2AC-8F52-4A6A-A74F-AAA1257FE0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trukturális támogatások alapelve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zösség által nyújtott támogatás 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kedvezőtlenebb helyzetben lévő területekre koncentrálódi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több éven át tartó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szírozási programok keretébe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tagállamok kezdeményezésére a Közösség által elfogadott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zösségi Támogatási Kereteken belül valósul meg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támogatások 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zottság és a tagállamok/régiók szoros együttműködéséve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tnak el a kedvezményezettekhez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mogatások kiegészítő jellegűe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s támogatás csak olyan projektekhez nyújtható, amelyet az adott tagállam is támogatásban részesí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42CB-E9D8-47B9-A839-EF73AF6088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kohéziós al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héziós Alapo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mely önálló eszköz és nem része a strukturális alapoknak 1993-ban hozta létre az Európai Unióról szóló szerződés – más néven a Maastrichti szerződés – a közösségi fejlesztési eszköztár kiegészítésével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on tagállamok támogatására, amelyek GNP-je a közösségi átlag 90%-át nem éri e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z Alap támogatásait – amelyek az adott beruházás 80-85%-át fedezik – 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rnyezetvédelem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z-európai hálózato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s a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zlekedési infrastruktúr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jlesztésére és ezáltal a tagállamok közötti gazdasági és szociális kohézió és szolidaritás elősegítésére lehet felhasználn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C479-9235-4038-AF86-C4EE9B2A85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gyéb belső politikák finanszíroz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egyéb belső politikák közé sorolt kiadások köre igen vegyes képet mutat. E körbe tartoznak többek közöt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tatásra és műszaki fejlesztés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különített összege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z-európa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özlekedési, energiaszállítási és telekommunikáció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álózat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jlesztésének támogatás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z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tatá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é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épzé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rületeinek támogatá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dezeken túl van még számos belső politika, amelyek finanszírozását a közös költségvetés biztosítja, mint például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rnyezetvéde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z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ovizuális méd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ltú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ag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munikáci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rülete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E366-B49C-470E-8127-4CD95F8369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bővítés finanszíroz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ővítés előkészítésére, az új tagok felkészülésére az Unió programokat dolgozott ki, és e programok keretében jelentős összegeket juttatott a tagjelölt országoknak, hogy államszervezetüket és gazdaságukat az Unió normáinak megfelelően át tudják alakítani és egyúttal ezek jelentős modernizálására is sor kerülhess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e program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rásait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zdasági és társadalmi modernizációra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s a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zösségi jogszabályok átvételére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ó felkészülés finanszírozására lehet felhasználn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A program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retében az EU a tagjelöltek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zlekedési infrastruktúrájának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jlesztéséhez és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rnyezetvédelmi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ruházásainak finanszírozásához járul hozzá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ARD program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tagjelöltek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zőgazdaságának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rnizálásához, a mezőgazdasági termékek minőségének javításához, bizonyos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ékfejlesztési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űveletekhez járul hozzá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programok – egy rövid átmeneti időtől eltekintve – a csatlakozás időpontjáig állnak a tagjelölt országok rendelkezésé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F779-8929-4FAF-A26D-D7F1912C1A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európai unió költségvetési jog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lapvető kérdés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költségvetési jog alapvető jogszabály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költségvetési szabályozás alapelv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z EU pénzügyi tervezési keretidőszak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költségvetés szerkez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költségvetés bevétel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költségvetés kiadás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költségvetés megalko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költségvetés végrehaj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költségvetés ellenőrz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0A04-1CE9-4E52-AFAD-C6F692072A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költségvetés megalko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ltségvetés megalkotásával kapcsolatos feladat és a hatáskörök megoszlanak az az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ópai Parlament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ác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s a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zottság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özöt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zottság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ladata a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ltségvetés megtervezése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s az előzetes költségvetési terv elkészítés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ltségvetés elfogadásának specifikuma, hogy az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fogadás jogköre megoszlik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két másik intézmény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Európai Parlament és a Tanács között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z Unió költségvetését mindkét intézménynek el kell fogadn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ülön specialitása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z EU költségvetési eljárásának, hogy az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ópai Parlament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s a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ác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ét olvasatban tárgyalja meg és ezt követően fogadja el a költségvetést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ehát amellett, hogy a költségvetés elfogadására vonatkozó hatáskör megoszlik a két intézmény között az eljárás lényegében meg is duplázódi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rlament – fontos okból – elutasíthatja a költségvetés tervezetét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vagyi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rlament költségvetési kérdésekben lényegében vétójoggal rendelkezi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6795-6528-4C39-ADCC-36883FAA00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költségvetés végrehajt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ltségvetés végrehajtásának felelőssége a jóváhagyott előirányzatok keretei között a Bizottságot terheli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 költségvetés végrehajtására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azonba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gyakorlati okokból – többféle módon kerülhet s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zpontosított módo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hol a Bizottság közvetlenül saját intézményein keresztül teljesíti a végrehajtási feladatoka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gállamokkal megosztott módo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mikor a Bizottság egyes végrehajtási feladatokat átruház a tagállamokr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ntralizált módo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mikor a végrehajtási feladatok harmadik államokat – is – terhelne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mzetközi szervezetekkel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özös gazdálkodás kereté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tos alapelv,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hogy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költségvetés végrehajtásához szükséges egy, a költségvetéstől elkülönült rendelkezésben meghatározott jogalap (pl. közösségi progra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Noha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költségvetés végrehajtá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Bizottságot feladata, gyakorlati szempontból azonban a Bizottságon, illetve a többi intézményen belül is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égrehajtással kapcsolatos hatáskörök átruházhatók azzal, hogy a felelősség továbbra is a Bizottságot terheli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CEC5-4465-42F8-A46D-CD3D3EDBB9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öltségvetési ellenőrzés 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ltségvetés végrehajtásában fontos szerepet játszanak mind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s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ind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üls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lenőrzést végző intézmény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ső ellenőrzés működteté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Közösség valamennyi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zösségi forrásokat felhasználó intézményének kötelessé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z intézmények belső ellenőrzési szervezetének feladata az intézmény gazdálkodásának figyelemmel kisérése és véleményezése, a gazdálkodás feltételeinek javítására, ajánlások készítése az intézmény vezetése számára, valamint a hatékony és eredményes pénzgazdálkodás elve alkalmazásának elősegíté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ülső ellenőrzé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ladatát a Közösség három intézménye látja el: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ámvevőszé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la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á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0087-C5ED-4F7D-9D9F-A13AC39C03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öltségvetési ellenőrzés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ámvevőszék az Unió önálló intézménye, amelynek feladata a bevételekkel és kiadásokkal való – a közösségi pénzügyi szabályoknak megfelelő – gazdálkodás ellenőrzés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ámvevőszék hatásköre kiterj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minden közösségi bevételi és kiadási pénzügyi művelet ellenőrzésér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Közösség és intézményei által készített pénzügyi beszámolók ellenőrzésé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zámvevőszék az eseti és éves jelentéseket készít az ellenőrzéseiről, amelyeket az Európai Közösségek Hivatalos Lapjában közzé is tes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onlóan a magyar megoldáshoz az Európai Számvevőszék sem rendelkezik sem igazságszolgáltatási (bírói) jogkörökkel, és nem terjed ki arra sem a hatásköre, hogy büntetéseket szabjon ki, vagy egyéb határozatokat hozzo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BFA9-90E8-46AD-9ED8-F1EE0DE1CE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öltségvetési ellenőrzés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rlamenti ellenőrzés a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ltségvetés végrehajtás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ának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lyamatos ellenőrzésé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jelenti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szerint a Bizottság a Parlamentnek nemcsak utólag, a költségvetési év lezárulta után számol be a költségvetés végrehajtásáról,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em havonta, illetve negyedévente tájékoztatást nyújt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arlament részé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ltségvetési Ellenőrző Bizottság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z a szerv, amely a parlamenti ellenőrzés során – magán a Parlamenten belül –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egfontosabb szerepet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átssz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rlamenti ellenőrzés legfontosabb mozzanata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elmentvény megadása a Bizottság számára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mely a magyar fogalmak szerint a zárszámadás megvitatásához és elfogadásához hasonlítha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elmentvény megadása azt jelenti, hogy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ltségvetési év lezárultát követően az Európai Parlament a Tanács ajánlása alapján, a költségvetés végrehajtásáért felelős Bizottságot mentesíti a költségvetési gazdálkodásból minden további felelőssége alól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és az adott költségvetési időszakot minden vonatkozásban befejezettnek és lezártnak tekin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AE48-6993-4584-9030-40905BD761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ómai Szerződé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rendelkezése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ómai Szerződés (268-280. Cikk) szabályozza az Unió költségvetésére vonatkoz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pvető kérdéseke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ltségvetés készítési kötelezettsége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ltségvetés finanszírozására vonatkozó alapvető szabályoka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ltségvetési felhatalmazás időszaká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ltségvetés elkészítésének rendjé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átmeneti gazdálkodás szabályai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ltségvetés végrehajtásának alapvető kritériumai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elszámolás kérdéseit, é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zösségek pénzügyi érdekeit sértő csalások elleni fellépés alapvető szabályai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énzügyi ellenőrzé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ladatát a Közösségen belül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ámvevőszé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átja el, amelyre vonatkozó alapvető szabályokat szintén a Szerződés tartalmazza. (246-248. Cik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BD53-71B6-4BFE-B1B5-3A0E7DBA8F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ásodlagos jogforrá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legfontosabb másodlagos jogforráso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1605/2002/EK, Euratom rendelete az Európai Közösségek általános költségvetéséről szóló Pénzügyi rendeletről,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(lényegében az EU „államháztartási törvénye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1999. május 6-án megkötött Intézményközi Megállapodá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anács 2000. szeptember 29-i 2000/597/EK, Euratom határozata az Európai Közösségek saját forrásainak rendszeréről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F32A-5273-4C86-A910-9E79F86F8A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ltségvetési szabályozás alapelve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ltségvetési alapelve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egységesség és a költségvetési pontosság e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éves költségvetés e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egyensúly e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elszámolási egység e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univerzalitás e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észletesség e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atékony és eredményes pénzgazdálkodás e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átláthatóság el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B224-6882-40D2-9DA0-DEFECF6B58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EU pénzügyi tervezési keretidőszakai</a:t>
            </a: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EU éves költségvetéseit egy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ézményközi megállapodásba foglalt középtávú (hét évre szóló) pénzügyi terv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retei között alkotja meg az EU három e témában is fontos hatáskörrel rendelkező intézménye az Európai Parlament, a Tanács, valamint a Bizottsá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zéptávú megalkotott pénzügyi tervben lényegében meghatározzák összességében és a főbb kategóriák szerint az adott időszak által lefedett költségvetési évek éves kiadási kereteit, valamint a következő időszak költségvetési prioritásai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dez azonban semmilyen egyéb szempontból nem befolyásolja az érintett intézmények költségvetéssel kapcsolatos hatásköreit és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nem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rinti az éves költségvetés elvé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zéptávú pénzügyi terv nagyban különbözik egy egyszerű előrejelzéstől, tekintettel arra, hogy az ebben rögzített keretösszegek az Intézményközi megállapodásban részes intézményekre nézve kötelezően alkalmazandó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401E-9EFC-4243-B4B1-940D6DE538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öltségvetési bevétel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ltségvetés bevételeinek túlnyomó részét az ún.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ját források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lentik. A saját források rendszere lényegében négy fő részből áll, amelyet a tagállamok bocsátanak a Közösségek rendelkezésé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mezőgazdasági lefölözések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nem tagállamokkal folytatott kereskedelmet terhelő vámok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tagállamok által beszedett forgalmi adók meghatározott rés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 tagállamok GNP-je alapján meghatározott negyedik forrá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zösségek saját forrásai mellett a költségvetés bevételei közé tartoznak az egyéb bevételek: a közösségi alkalmazottak jövedelemadója, az intézmények működési bevételei, a késedelmi kamatok és bírságok; valamint az előző évekről származó költségvetési többlet összege.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Uniónak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nincs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ókivetési joga, ebből adódóan nincs uniós adó- és vámhatóság sem, amely bármilyen adót beszedhetne.</a:t>
            </a:r>
            <a:r>
              <a:rPr b="0" lang="hu-H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24E8-705A-4883-990F-59D30ABF95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aját források rendsz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aját források rendszere jelenleg négy fő részből ál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zőgazdasági lefölözések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közös mezőgazdasági politika keretében, harmadik államokkal folytatott kereskedelem vonatkozásában a közös agrárpiaci rendtartás alapján kivetett illetékek, díjak vagy egyéb kötelezettségek, valamint a közös cukorpiaci rendtartás keretében a cukorra, izoglükózra és inulin szirupra kivetett illetéke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ámok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nem tagállamokkal folytatott kereskedelem vonatkozásában a Közös Vámtarifa alapján bevezetett vámok és egyéb kötelezettsége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ÁFA forrás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zon bevételek, amelyek egy minden tagállamra egységesen alkalmazott mértéknek a harmonizált többletértékadó adóalapjára vetített az alkalmazásából erednek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NP forrás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tagállamok GNP-je összegének – a költségvetési eljárás során az összes egyéb bevétel függvényében – meghatározott része.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E2BC-CC53-4AD6-911B-6C3CADCDA9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költségvetési kiadá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öltségvetés kiadási oldala hat fejezetre oszlik: az Európai Parlament, a Tanács, a Bizottság, a Bíróság, a Számvevőszék fejezetre, valamint a Gazdasági és Szociális Bizottság és a Régiók Bizottsága közös fejezetére. A kiadási fejezetek előirányzatai kizárólag működési előirányzatok a Bizottság fejezetet kivéve, amely két fő részre oszl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z egyik rész tartalmazza a Bizottság működési előirányzatai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ásik rész azonban a közösségi politikák (mezőgazdaság, strukturális politika, stb.) finanszírozására vonatkozó előirányzatokat tartalmazz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56E5-F030-42AF-8BF0-C07A4B0A00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6:20:07Z</dcterms:created>
  <dc:creator>Halász Család</dc:creator>
  <dc:description/>
  <dc:language>en-US</dc:language>
  <cp:lastModifiedBy>Halász Család</cp:lastModifiedBy>
  <dcterms:modified xsi:type="dcterms:W3CDTF">2003-12-01T21:59:39Z</dcterms:modified>
  <cp:revision>4</cp:revision>
  <dc:subject/>
  <dc:title>Pénzügyi jog</dc:title>
</cp:coreProperties>
</file>