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889A-D3E1-46E1-9137-7079596DC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AE6C-8E6E-496E-8BDB-CCF63F53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455A-D4F0-4163-97CD-563905B95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5BD0-F449-4B6F-A98C-8C7485CEF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B932-3362-4498-B117-2382BD01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9283-448C-463C-BF7D-0CCF2451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1532-22F7-4863-A024-BA38FE43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4037-6B55-4026-A288-C81FB9F7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2F94-4620-42BD-B995-10BA2831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3AED-138D-4D80-9443-D3661CE2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A87D-089C-4D2D-BF4F-A8F49A9F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BECA-FD33-4E5A-AB4E-58E5C582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DC27-6551-490B-9EA5-B92F53D8F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énzügyi j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epetitorium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tételes adómegállapí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énzügyminisztérium az adózó kérelmére az általa közölt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jövőben megkötendő szerződésre vagy más jogügyletre vonatkozó -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szletes tényállás alapján megállapítja az adókötelezettséget vagy annak hiányát, és amennyiben lehetséges, az adóalapot és az adót.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feltételes adómegállapítás az adóhatóságra csak változatlan tényállás mellett, az adott ügyben kötelező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zetési könnyítés engedélyez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izetési könnyítés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(halasztás, részletfizetés)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zó és az adó megfizetésére kötelezett személy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érelmér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z adóhatóságnál nyilvántartott adóra engedélyezhető.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izetési könnyítés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gyelemmel a fizetési nehézség kialakulásának okaira és körülményeire –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ban az esetben engedélyezhető, ha a fizetési nehézsé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a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érelmezőnek nem róható fel,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gy annak elkerülése érdekében úgy járt el, ahogy az az adott helyzetben tőle elvárható, tovább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tmeneti jellegű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ehát az adó későbbi megfizetése valószínűsíthető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m engedélyezhető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zetési könnyí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z SZJA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előlegére és a levont jövedelemadór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a beszedett helyi adór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a kifizető által a magánszemélytől levont járulékok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adómérsékl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hatóság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rsékelheti vagy elengedhe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ánszemély kérelme alapján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z őt terhelő adó-, bírság-, vagy pótléktartozást, ha azok megfizetése az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ózó és a vele együtt élő közeli hozzátartozók megélhetését súlyosan veszélyeztet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 pótlék- és bírságtartozást kivételes méltányosságból, különösen akkor, ha annak megfizetése a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állalkozási tevékenységet folytató magánszemély, jogi személy vagy egyéb szervezet gazdálkodási tevékenységét ellehetetlenítené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 helyi adótartozást az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nkormányzat rendeletében meghatározott feltételek alapján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letéktartozást,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illetékfizetésre kötelezett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érelmére, jövedelmi, vagyoni és szociális körülményeire,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gyonszerzési illeték esetén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megszerzett vagyon jellegére és a szerzés körülményeire figyelemmel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végrehajtás 1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hatóság a végrehajtási eljárásban az egyes végrehajtási cselekmények foganatosításakor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írósági végrehajtásról szóló 1994. évi LIII. törvény (Vht.)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elkezéseit alkalmazz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igazgatási eljárásban végrehajtható okiratnak minősü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a fizetési kötelezettséget megállapító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gerős hatósági határozat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az önadózás esetén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izetendő adót tartalmazó bevallás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a behajtási eljárás során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ehajtást kérő megkeresés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okirat végrehajthatóságához külön intézkedésre nincs szükség.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végrehajtás 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égrehajtást az első fokon eljáró állami adóhatóság folytatja le a hatáskörébe tartozó adók alapján fennálló tartozások végrehajtása eseté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égrehajtási eljárás az adóhatóság külön határozata nélkül, a végrehajtási cselekmény foganatosításával indul, azonban az ingatlan-végrehajtás elrendeléséről és a tartozás biztosítására az ingatlan-nyilvántartásba jelzálogjog bejegyzéséről az adóhatóság határozatban rendelkezik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égrehajtás irányulha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munkabérre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bankszámlán lévő követelésre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ingó vagyontárgyra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ingatlan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ótartozás törl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óhatóság határozattal törli az adózó adótartozását, ha a tartozásért helytállni köteles személyek mindegyikével szemben lefolytatták a végrehajtási eljárást, de az nem vezetett eredmény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égrehajthatatlanság címén törölt adótartozást az adóhatóság határozattal újból előírja, ha a végrehajtáshoz való jog elévülési idején belül az adótartozás végrehajthatóvá váli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gorvosl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ogorvoslatok rendszere az adóigazgatási eljárásban az államigazgatási eljárás általános rendszerén alapul. Az adóigazgatási eljárásban is lehetőség van – az Art.-ban foglalt kiegészítésekkel – az általános szabályok szer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 határozat módosítására és visszavonásár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 fellebbezésr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 felügyeleti intézkedésr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 határozat bírósági felülvizsgálatára, valami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ügyészi intézkedésekre.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lelősség az adójogb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jogi felelősség megállapításának feltétele, hogy az adózó olyan jogellenes magatartást valósítson meg, amely a közpénzügyi érdekek sérelmét okozza. Az adózó akkor mentesül a felelősség alól, ha magatartását ki tudja menten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elősség tényálláseleme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jogellenes magatart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közpénzügyi érdekek sérel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 előbbiek közötti okozati összefügg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kiment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ójogi szankci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jogi szankciók a jogszabályokban meghatározott adókötelezettségek nem vagy nem szabályszerű teljesítése esetén alkalmazott közigazgatási jogi jogkövetkezménye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jogi szankciók között megkülönböztetünk reparatív és repressziv jellegű szankciók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aratív jellegű szankciók a pótlékok, amelyek célja a jogsértés következtében keletkezett – anyagi jellegű – hiány helyreállítás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epresszív jellegű szankciók közé tartoznak a bírságok, amelyek célja nem egyszerű egyfajta hiány kiegyenlítése, hanem a jogsértés megtorlása.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Önellenőrzési pótlé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 az adózó az adót, a költségvetési támogatást az önellenőrzés keretében helyesbíti, önellenőrzési pótlékot fiz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önellenőrzési pótlékot adónként illetve költségvetési támogatásonként a bevallott és a helyesbített adó, illetve költségvetési támogatás összegének különbözete után az adózó állapítja meg, és megfize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önellenőrzési pótlékot a késedelmi pótlék 50%-ának, - ismételt önellenőrzés esetén 75%-ának - megfelelő mértékben kell felszámítani a bevallás benyújtására előírt határidő leteltét követő első naptól a helyesbítés nyilvántartásba történő feljegyzésének, illetve az önellenőrzési lap benyújtásának napjáig.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önellenőrzé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önellenőrzés az adózók – önadózáshoz kapcsolódó – alapvető jog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önellenőrzé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z adóalap, a feltárt adó, költségvetési támogatás, és az önellenőrzési pótlék megállapítás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 helyesbített adóalap, a helyesbített adó, költségvetési támogatás, valamint a pótlék bevallása é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yidejű megfizetése, illetőleg az adó, költségvetési támogatás igénylé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ésedelmi pótlé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 késedelmes megfizetése esetén az esedékesség napjától, a költségvetési támogatásnak az esedékesség előtt történő igénybevétele esetén az esedékesség napjáig késedelmi pótlékot kell fizetn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ésedelmi pótlék mértéke minden naptári nap után a felszámítás időpontjában érvényes jegybanki alapkamat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étszeresének 365-öd rés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asztási bírsá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ulasztási bírság több, az Art.-ban meghatározott cselekmény elmulasztása esetén alkalmazható mind a magánszemély, mind az egyéb adózóval szemb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ulasztási bíráság mértéke magánszemély esetén legfeljebb 100.000 forint, más adózó esetén legfeljebb 200.000 fori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óbírsá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bírságot adóhiány megállapítása esetén kell fizetn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bírság mértéke - főszabályként - az adóhiány 50%-a. A jövedéki törvény szerint az adóbírság mértéke a jövedéki termékkel kapcsolatos adóhiány 100%-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óbírságot állapít meg az adóhatóság akkor is, ha az adózó jogosulatlanul nyújtotta be támogatási, adóvisszaigénylési, adóvisszatérítési kérelmét, vagy igénylésre, támogatásra, visszatérítésre vonatkozó bevallását, és a jogosultság hiányát az adóhatóság a kiutalás előtt megállapítot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bírság megállapítása nem érinti a késedelmi pótlékfizetési kötelezettség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óhiánynak minősül az adózó terhére megállapított adókülönbözet, önadózás esetén azonban csak akkor, ha az adókülönbözetet az esedékesség időpontjáig nem fizették meg, illetve a költségvetési támogatást igénybe vetté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ézkedések 1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000000"/>
                </a:solidFill>
                <a:uFillTx/>
                <a:latin typeface="Times New Roman"/>
              </a:rPr>
              <a:t>Az árukészlet lefoglal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hatóság, ha adóbírságot szab ki, a vállalkozói igazolvány, illetőleg cégbejegyzés nélkül folytatott tevékenység eszközét, termékelőállítás esetén annak eredményét, az árukészletet a kiszabott bírság összegének mértékéig, annak biztosítékaként lefoglalhatja, és erről a bírságot kiszabó határozatban rendelkezik.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ézkedések 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Telephely-lezárá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 az adóhatóság megállapítása szerint az adózó az adóköteles tevékenység célját szolgáló ugyanazon helyiségében az első ellenőrzéstől számított egy éven belül több alkalommal mulasztotta el számla- vagy nyugtaadási kötelezettségét, a mulasztási bírság kiszabása mellett az adóköteles tevékenység célját szolgáló helyisége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 második alkalommal 6 nyitvatartási napra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 harmadik alkalommal 10 nyitvatartási napra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 negyedik és minden további alkalommal 20 nyitvatartási napr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zárja, függetlenül attól, hogy a második és a további ellenőrzések között milyen időtartam telt el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övedéki bírsá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lkalmazásának főbb eset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 a természetes személy a jövedéki terméket az adózás alól elvonj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gyéni vállalkozó és más gazdálkodó szervezet, amennyiben olyan jövedéki terméket birtokol, szállít, értékesít, használ fel, amelyet nem adóraktárban állítottak elő, vagy amelyet nem vámkezelte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rjegy és a hivatalos zár hamisítás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adójegy hamisítás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 a jövedéki engedélyes kereskedelmi tevékenységet folytató kereskedő kétséget kizáróan adózott termékeket forgalmaz, de nem rendelkezik jövedéki engedéllyel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évülés 1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 megállapításához való jog elévül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 megállapításához való jog annak a naptári évnek az utolsó napjától számított 5 év elteltével évül el, amelyben az adóról bevallást, bejelentést kellett volna tenni, illetve bevallás, bejelentés hiányában az adót meg kellett volna fizetn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évülés 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 végrehajtásához való jog elévül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tartozás végrehajtásához, a költségvetési támogatás kiutalásához való jog az esedékesség naptári évének az utolsó napjától számított 5 év elteltével évül el. Amennyiben az adóhatóság végrehajtási cselekményt foganatosított, az elévülés 6 hónappal meghosszabbodik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igazgatást érintő közösségi szabályozá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sődleges jogszabályo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z alapító szerződések rendelkezés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ásodlagos jogszabályo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z adóigazgatásra vonatkozó irányelvek szabály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zásra vonatkozó általános szabályok a Római Szerződésbe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1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ómai Szerződés adózatására vonatkozó előírásainak lényege, hogy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zárja annak lehetőségét, hogy bármely tagállam az adóztatáson keresztül az egységes belső piac működését hátrányosan befolyásolja, korlátozza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és bármilyen áru vagy szolgáltatás kereskedelmére negatív hatást gyakorolhas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zerződés megtiltja, hogy bármely tagállam a más tagállamból érkező árukra vagy szolgáltatásokra bármilyen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közvetlen vagy közvetett jellegű – a kereskedelmet torzító adót vessen ki. Mindezen túl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yan adó sem vethető ki, amely alkalmas arra, hogy közvetve védjen valamely terméket egy másik tagállamból származó áruval szemben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SZ. 90. cikk).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önellenőrzé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önadózás útján megállapított vagy megállapítani elmulasztott adót, adóalapot és a költségvetési támogatást az adózó helyesbíthet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m lehet önellenőrzéssel helyesbíteni az illetéket. Az adózó, ha a törvényben megengedett választási lehetőséggel jogszerűen élt, ezt a választását az önellenőrzéssel nem változtathatja me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ellenőrzés megkezdésétől a vizsgálat alá vont adó és költségvetési támogatás - a vizsgált időszak tekintetében - önellenőrzéssel nem helyesbíthető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elyesbített adó, a költségvetési támogatás és a megállapított önellenőrzési pótlék a helyesbített összeg és a pótlék bevallásával egyidejűleg esedék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zásra vonatkozó általános szabályok a Római Szerződésbe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2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zerződés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lhatalmazást ad a Tanács részére a közvetett adókra vonatkozó szabályok harmonizálására vonatkozó rendelkezések kibocsátására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kintettel arra, hogy a tagállamok a közösség tagjává válásával nem mondanak le adóztatási jogukról, ezért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jogi jogharmonizáció a Római Szerződés rendelkezései szerint csak az egységes belső piac létrehozáshoz és működéséhez szükséges mértékig irható elő részükre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SZ 93. cikk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adóigazgatásra vonatkozó közösségi irányelv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igazgatást érintő kölcsönös segítségnyújtás szabályozás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anács 1977. december 19-i 77/799/EGK irányelve a tagállamok illetékes hatóságainak a közvetlen adóztatás és a hozzáadottérték-adó területén történő kölcsönös segítségnyújtásáról  (Jogsegély-irányelv).</a:t>
            </a:r>
            <a:r>
              <a:rPr b="0" lang="hu-H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behajtást érintő kölcsönös segítségnyújtás szabályozása</a:t>
            </a:r>
            <a:r>
              <a:rPr b="1" lang="hu-H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anács 1976. március 15-i 76/308/EGK irányelve lefölözésekből, vámokból, adókból és egyéb intézkedésekből eredő megtértési igényekre</a:t>
            </a:r>
            <a:r>
              <a:rPr b="0" lang="hu-H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natkozó kölcsönös segítségnyújtásról (Behajtási irányelv).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óigazgatási eljárás 1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igazgatási eljárás hivatalból vagy az adózó kérelmére, bejelentésére, bevallására indu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adóigazgatási eljárás cél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dóalap, adó, adómentesség, adókedvezmény, adófizetési kötelezettség vagy jogkövetkezmény megállapításár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költségvetési támogatási jogosultság megállapítására, adóvisszaigénylési, adóvisszatérítési igény elbírálására, költségvetési támogatás kiutalásár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örvényben előírt fizetési kötelezettségtől való eltérés engedélyezésére.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igazgatási eljárásban az adóhatóság az adózó jogait, kötelezettségeit állapítja meg, és ezt határozatban közli.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óigazgatási eljárás 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igazgatási eljárás fajtá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hatósági adómegállapítás bejeletés, vagy bevallás alapjá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hatósági adómegállapítás a bevallás azonnali ellenőrzése alapjá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utólagos adómegállapítá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z adó soron kívüli megállapítás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z adó feltételes megállapítás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fizetési halasztás, részletfizetés engedélyezés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z adómérséklé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égrehajtási eljárás.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tósági adómegállapítás bejelentés, bevallás alapjá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hatóság kivetéssel állapítja meg a helyi adót - a vállalkozók kommunális adója, az iparűzési és az adóbeszedéssel megállapított adó kivételével -, valamint az önkormányzat költségvetése javára más törvény alapján fizetett adó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agyonszerzési illetéket, továbbá az illetéktörvény szerint kiszabás alapján fizetendő eljárási illetéket az illetékhivatal szabja ki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tósági adómegállapítás a bevallás azonnali ellenőrzése alapján</a:t>
            </a: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állami adóhatóság a bevallásra előírt határidő lejártát követően azonnali ellenőrzést rendel el ha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z adóhatóság rendelkezésére álló, azok száma vagy tartalma miatt jelentősnek tekinthető adat, tény, körülmény alapján alaposan feltételezhető, hogy az adózó iratai nem alkalmasak a valós adó, illetve költségvetési támogatás alapjának megállapítására, valami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 a bevallás alapján megállapítható, hogy ha a magánszemély valótlan, hiányos bevallást vagy nyilatkozatot tett, vagy a nyilatkozattételt elmulasztotta  és ez alapján a becslés feltételei fennállnak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Utólagos adómegállapí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hatóság az utólagos adómegállapítás keretében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ónként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öltségvetési támogatásonként az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yes időszakokra elkülönítve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tározattal állapítja meg a bevallott vagy bevallani elmulasztott és az ellenőrzés eredményeként feltárt adó, illetve költségvetési támogatás alapját, az adót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 költségvetési támogatást, és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z adózót az adóhiány megfizetésére kötelezi,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lletve rendelkezik az adózó javára mutatkozó különbözet kiutalásáról.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z adó soron kívüli megállapítá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 az adókötelezettsé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zó halál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att szűnik meg, az adóhatóság az adót határozattal állapítja me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z adózóval annak halálakor együtt élt házastársa vagy örököse kérelmé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z adóhatóság határozattal állapítja meg év közben az adót, ha ezt az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szág területét a külföldi letelepedés szándékával elhagyni kívánó adózó kér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A belföldö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kóhellyel, szokásos tartózkodási hellyel, telephellyel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ékhellyel nem rendelkező adózó adójá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z adóhatóság az adózó bejelentése alapján határozattal állapítja meg, ha az adózó az adóév végét megelőzőe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zal a szándékkal hagyja el az ország területét, hogy az adóév sorá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óköteles tevékenysé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gy jövedelemszerzé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éljából vissza nem té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z adóhatóság határozattal állapítja meg az adót, illetve az adóelőleget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 a magánszemély a kifizető, illetve a munkáltató által megállapított adót vitatja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gy az adóelőleg összegével kapcsolatban a kifizető és a magánszemély között vita v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1T20:03:31Z</dcterms:created>
  <dc:creator>Halász Család</dc:creator>
  <dc:description/>
  <dc:language>en-US</dc:language>
  <cp:lastModifiedBy>Halász Család</cp:lastModifiedBy>
  <dcterms:modified xsi:type="dcterms:W3CDTF">2003-10-12T07:23:34Z</dcterms:modified>
  <cp:revision>2</cp:revision>
  <dc:subject/>
  <dc:title>Pénzügyi jog</dc:title>
</cp:coreProperties>
</file>