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2DB4-9E99-470D-BEB3-C210DE72F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800D-177E-4AFE-A14D-CBF4B69B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A686-8D9D-44CA-B3D2-698A5546E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18BF-022D-48D9-85CE-B67074D6D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7997-AE1D-476D-9144-A53AF256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8099-A0A9-4AA4-82A4-BB7F281A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5FAA-2D19-494E-88EB-EB0051B7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43D2-6EC2-4D6B-A485-94433DBA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0BCE-518B-4409-8E74-760E7E7E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913B-1846-42DF-9877-556CABEC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EA5F-0852-4C50-AD21-C70B767A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6C37-D8CD-41D7-84DE-98550ECF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0CA1-BC0E-496D-9BAE-CA6472021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énzügyi j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epetitorium 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jövedéki adó alany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 alany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elföldi termék előállítá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etén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övedéki terméket előállít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zemély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ermékimport esetén pedig az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ál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bizonyos esetekben az adóalanyiság kiterjed a jövedéki terméket betárol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raktár engedélyes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é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mentes felhasználó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felfüggeszté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jövedéki termék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földi előállítása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és jövedéki termék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raktárba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gy adómentes felhasználó üzemébe való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árolása esetén az adófelfüggesztés az adómegállapítás és az adófizetés halasztását jelenti.</a:t>
            </a:r>
            <a:r>
              <a:rPr b="0" lang="hu-H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jövedéki termék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ja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etén az adófelfüggesztés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 fizetésének halasztása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felfüggesztés megszűné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felfüggesztés megszűnik, 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raktár engedélyese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gy az adómentes felhasználó az adómegállapítási és adófizetési kötelezettség alól, az importáló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fizetési kötelezettség alól véglegesen mentesül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a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megállapítási és adófizetési kötelezettség beáll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megállapítási és adófizetési kötelezettség beállta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övedéki termék szabadforgalomba bocsátásával, a jövedéki törvény megsértésével, illetve a jövedéki törvény előírásainak nem – vagy nem teljes körű – teljesítésével annak napján beáll az adómegállapítási és adófizetési kötelezettség.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 fizetésére kötelezett személ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t a fizetés esedékessé válásakor főszabályként az adóalany fize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 fizetésére kötelezett tovább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z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kobzott terméket megvásárló személ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az adóraktár engedélyesének felszámolása során történő szabadforgalomba bocsátás esetén a vevő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az adóraktár engedélyesének felszámolása során a termék hitelezőnek való átadása esetén a hitelező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az adóraktár engedélyesének végelszámolása esetén a jövedéki terméket átvevő ta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 a törvény megsértésével adómentesen átvett szőlőbor esetén a termelő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üzemanyagok kereskedelmét folytató személynél az üzemanyagok tényleges és nyilvántartás szerinti különbözete esetében a kereskedő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aki az adózatlan jövedéki terméket a törvény rendelkezéseitől eltérő módon, jogellenesen megszerzi, birtokolja, szállítja, felhasználja vagy forgalomba hozz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raktá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raktár kizárólag a vámhatóság által kiadott érvény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dóraktári engedéllye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űködtethető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övedéki termé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melyre a törvény adómértéket állapít me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zárólag olyan adóraktárban állítható elő, amelyne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űködtetője e termék előállítására vonatkozó adóraktári engedéllyel rendelkezi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importálás eseté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 megfizetése nélkü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őszabályké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ak adóraktárba tárolható 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és ott tárolható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betárolás eseté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 megfizetése nélkü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őszabályké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ak adóraktárban tárolhat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övedéki biztosíté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felfüggesztéssel történő szállítással és az adófizetési kötelezettség teljesítésével járó adókockázatra az adóraktár engedélyesének jövedéki biztosítékot kell nyújtania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övedéki biztosíté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készpénz, vag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földi székhelyű hitelintézet által vállalt vagy felülgarantált bankgarancia, vag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Agrár-Vállalkozási Hitelgarancia Alapítvány által adott garancia lehe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raktár bizonylatolási, nyilvántartási és elszámolási kötelezettség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raktár engedélyesét szigorú bizonylatolási kötelezettség terheli. Adóraktárból a jövedéki termé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adófelfüggesztés mellett csak termékkísérő okmánnyal tárolható ki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szabadforgalomba – főszabályként – az eredet igazolására alkalmas egyszerűsített kísérő okmány egyidejű kiállításával és a szállítást végző részére történő átadásával bocsátható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raktárban jövedéki termékenként külön-külön termékmérleg nyilvántartást is kell vezetni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ermékmérleg tartalmazza az adóraktárban előállított, tárolt jövedéki termék mennyiségének napi nyitó- és zárókészletét, valamint a készletnövekedéseket és -csökkenéseket, az adófizetési kötelezettség megállapításához szükséges jogcímek szerinti részletezettségbe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övedéki termék adómentes felhasználása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övedéki termék adómentes célokhoz kötődő adómentes beszerzéséhez a jövedéki termék felhasználójának külön engedéllyel (keretengedély) kell rendelkeznie. A keretengedély feltételei hasonlóak az adóraktári engedély feltételeihe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mentes felhasználási cél megvalósulásának kockázatára a keretengedély megadásához jövedéki biztosítékot kell előzetesen felajánlani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bben az esetb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készpénz, va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elföldi székhelyű hitelintézet által vállalt vagy felülgarantált bankgara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h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jövedéki adó megállapítása 1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alany az adót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nadózással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állapítja meg, vallja be és fizeti meg,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 a törvény szerint nincs helye az adó hivatalból történő megállapításána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nadózás esetén az adó alapját és az adót főszabályként naptári hónaponként kell megállapítan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raktár engedélyese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előleget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zet, amennyiben az előző év azonos negyedévében keletkezett adófizetési kötelezettsége elérte a 6.000.000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t-ot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z adóelőleg mértéke az előző év azonos negyedévében keletkezett adó egyhatod rés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pvető fogalm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kötelezettség alapja, keletkezés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z adóraktár fogalma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z adófelfüggeszté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z adófizetés időpontja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 jövedéki biztosíték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 jövedéki termékek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 zárjegy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z adójegy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 közösségi jövedéki szabályozás keretei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z adóraktár fogalma a közösségi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bályozásban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 bejegyzett / nem bejegyzett kereskedő fogalma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z adóügyi képviselő fogalma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z adózott termékek szállítása a Közössége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ü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jövedéki adó megállapítása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ámhatóság határozattal állapítja meg az adó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termékimport eseté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az elkobzott áru értékesítése, az adóraktár engedélyesének felszámolását követő szabadforgalomba bocsátás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lletve az az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ezáró vagyonfelosztást követő kitárolás, a jövedéki termék jogellenes megszerzése, felhasználása, átvétele és egyes üzemanyagok nyilvántartás szerinti és tényleges készletének különbözete esetén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a hatáskörébe tartozó egyéb adóügyben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hatósági felügye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ámhatóság felügyelete alatt végezhet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övedéki termék előállítása, az adózatlan jövedéki termék raktározása, adófelfüggesztés alatt történő szállítása, az adómentesen beszerzett jövedéki termék felhasználás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az adóraktári engedély megszűnése után az adóraktár engedélyese, illetve a keretengedély érvényességének megszűnése után az adómentes felhasználó jövedéki termékkel kapcsolatos tevékenysége, a készleten maradt jövedéki termék utáni adófizetési kötelezettség rendezéséi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övedéki termékek kereskedelme a szabadforgalomba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övedéki termék szabadforgalomban végzett jövedéki engedélyes kereskedelme, szabadforgalomból történő exportálása, szabadforgalom számára történő importálása a vámhatóság által kiadott jövedéki engedéllyel történh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gkövetkezménye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övedéki adóra vonatkozó jogszabályi előírások megsértésének esetére, tekintettel az átlagosnál jelentősebb összegű adóra és az ezzel összefüggő adókockázatra, a jövedéki törvény az Art.-ban meghatározottakhoz képest sokkal súlyosabb jogkövetkezményeket ír elő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ogkövetkezmények együttesen is megállapíthatók, ha azonban adófizetési kötelezettség elmulasztása miatti jogsértéssel összefüggésben jövedéki bírság és adóbírság is kiszabható, jogkövetkezményként a súlyosabb joghátrányt kell megállapítan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Ásványolaj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 alapja az ásványolaj mennyisége, az adómértéknél megjelölt térfogat illetve tömegegységben mér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ásványolaj adójának mértéke termékfajtától függően 85 Ft – 111,8 Ft/liter, illetve 40 Ft – 76,5 Ft/k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koholtermék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 alapja az alkoholtermék mennyisége, hektoliterfokban meghatározva. Hektoliterfok alatt a 20 °C-on mért 1 liter 100 v/v % etilalkohol értendő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 mértéke hektoliterfokonként 1670 fori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zeszfőzdében bérfőzés keretében előállított pálinka adója egy bérfőzető részére hektoliterfokonként évente 50 hektoliterfok mennyiségig 770 forint, efelett 1670 for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zárje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lkoholtermék - kivéve az 5,5 v/v %-nál kisebb alkoholtartalmú, fémdoboz csomagolású terméket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szabadforgalomba bocsátás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belföldi forgalom számára való vámkezelése, feltéve, hogy az importáló nem adóraktárba szállítja be a termé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rjeggyel, illetve zár- és ellenőrzőjeggyel  történh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zárjegy az alkoholtermék palackjára vagy legkisebb fogyasztói csomagolási egységére felhelyezett olyan bélyeg, amely igazolja, hogy a termék adóraktárban került előállításra, és onnan került kiszállításra, illetve, hogy az importból származó alkoholtermék belföldi forgalom számára való vámkezelése megtörté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ö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 alapja a sör mennyisége, hektoliterben és Balling-(Plató-)fokban mérv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ing-(Plató-)fok alatt a sörlé 20 °C-on mért szárazanyag-tartalmát kell érteni, tömegszázalékban kifejez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 mértéke hektoliterre vetítve Balling (Plató) fokonként 365 for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 alapja a bor mennyisége, literben mérv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 mérté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a szőlőborra literenként 5 Ft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egyéb borra literenként 80 F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mentes a saját művelésben álló szőlőterületen termelt szőlőből és/vagy legfeljebb az értékesített saját szőlőtermés mennyiségével azonos mennyiségben vásárolt szőlőből a természetes személy által előállított, gazdasági évenként és háztartásonként összesen legfeljebb 1000 liter saját fogyasztásra szánt szőlőbor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mentes az adóraktárban a természetes személy szőlőtermelő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szére a saját termésű szőlőből előállított és/vagy legfeljebb az értékesített saját szőlőtermés mennyiségével azonos mennyiségben vásárolt szőlőből előállított gazdasági évenként és háztartásonként legfeljebb 1000 liter saját fogyasztásra szánt szőlőbor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zsg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 alapja a pezsgő mennyisége, literben mérv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 mértéke literenként 79,30 for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jövedéki jog szabályozási terüle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övedéki jog átfogj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övedéki tevékenység engedélyezésé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gszerű folytatásá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övedéki adózás anyagi és eljárási szabályait, valami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ájuk vonatkozó ellenőrzési szabályokat 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ankcióka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öztes alkoholtermé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 alapja a köztes alkoholtermék mennyisége, literben mérv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 mértéke a habzó és a nem habzó köztes alkoholtermékre literenként egyaránt 115 for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hánygyártmá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 alap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a százalékos adómérték esetében a kiskereskedelmi eladási á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a tételes adómérték esetében ezer dara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 mérté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a cigarettára 4950 Ft 1000 darabonként és a kiskereskedelmi eladási ár 20 %-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a szivarra, a szivarkára és az egyéb fogyasztási dohányra a kiskereskedelmi ár 25 %-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a finomra vágott fogyasztási dohányra a kiskereskedelmi eladási ár 33 %-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ételes adómérték alapjaként a cigaretta darabszámát kétszerezni kell, ha annak hossza - füstszűrő és szopóka nélkül - meghaladja a 9 centimétert, de rövidebb, mint 18 centiméter, háromszorosan kell figyelembe venni, ha annak hossza - füstszűrő nélkül - 18 centiméter vagy annál nagyobb, de rövidebb, mint 27 centiméter, és így továb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adóje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ohánygyártmány szabadforgalomba bocsátása kizárólag olyan adójeggyel ellátva megengedett, amelyen a kiskereskedelmi eladási ár feltüntetésre kerül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ójegy a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ajt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ltüntetett kiskereskedelmi eladási ár alapján számított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jövedéki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 és a  25%-os általános forgalmi adó együttes összegének megfelelő értéket képvis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jegy átvételekor meg kell fizetni azt a jövedéki adó és általános forgalmi adó összeget, amelyet az igényelt adójegyek az átvételkor hatályos adómértékek alapján képviselnek.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izetési kötelezettség halasztására jogosult az adóraktár engedélyese és az importáló, amennyiben biztosítékot nyújt.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jövedéki adóztatás közösségi szabályoz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övedéki </a:t>
            </a:r>
            <a:r>
              <a:rPr b="0" lang="hu-HU" sz="2300" spc="-1" strike="noStrike">
                <a:solidFill>
                  <a:srgbClr val="000000"/>
                </a:solidFill>
                <a:latin typeface="Times New Roman"/>
              </a:rPr>
              <a:t>adó</a:t>
            </a:r>
            <a:r>
              <a:rPr b="0" lang="hu-H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zabályozása a magyar szabályozástól eltérően nem egy egységes jogszabályban, hanem több az egyes rész-témákat szabályozó jogszabályban történik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özösségi jövedéki szabályozás kiterjed többek között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3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hu-H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z adókötelezettség keletkezésére,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3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hu-H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ztatás helyének meghatározására,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3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hu-H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hu-HU" sz="23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u-H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övedéki termékek előállítására, </a:t>
            </a:r>
            <a:r>
              <a:rPr b="0" lang="hu-HU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ldolgozására, tartására,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3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hu-H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övedéki termékek közösségen belüli és </a:t>
            </a:r>
            <a:r>
              <a:rPr b="0" lang="hu-HU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ívüli kereskedelmére,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3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hu-H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z adóvisszatérítésre,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3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hu-H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z adókedvezmények és mentességek </a:t>
            </a:r>
            <a:r>
              <a:rPr b="0" lang="hu-HU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ltalános és különös szabályaira, valamint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3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hu-H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övedéki adó szerkezetére és mértékére.</a:t>
            </a:r>
            <a:r>
              <a:rPr b="0" lang="hu-H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hatályos közösségi jogszabály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A Tanács 92/12/EGK irányelve a jövedékiadó-köteles termékekre vonatkozó általános rendelkezésekről és e termékek tárolásáról, szállításáról és ellenőrzéséről (a horizontális irányelv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A vertikális irányelvek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a Tanács 92/79/EGK irányelve a cigaretták adójának </a:t>
            </a:r>
            <a:r>
              <a:rPr b="0" lang="hu-HU" sz="19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hu-H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zelítésérő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</a:t>
            </a:r>
            <a:r>
              <a:rPr b="0" lang="hu-HU" sz="1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u-H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nács 92/80/EGK irányelve a cigarettán kívüli feldolgozott dohány adójának közelítésérő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a Tanács 92/81/EGK irányelve az ásványi olajok jövedéki adója szerkezetének </a:t>
            </a:r>
            <a:r>
              <a:rPr b="0" lang="hu-HU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sszehangolásáró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a Tanács 92/82/EGK irányelve az ásványolajok jövedékiadó-mértékének közelítésérő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 a Tanács 92/83/EGK irányelve az alkohol és az alkoholtartalmú italok jövedéki adója </a:t>
            </a:r>
            <a:r>
              <a:rPr b="0" lang="hu-HU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erkezetének összehangolásáró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 a Tanács 92/84/EGK irányelve az alkohol és alkoholtartalmú italok jövedékiadómértékének közelítésérő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 a Tanács 95/59/EK irányelve a feldolgozott dohány fogyasztását befolyásoló, a forgalmi </a:t>
            </a:r>
            <a:r>
              <a:rPr b="0" lang="hu-HU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n kívüli egyéb adókró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jövedéki termékek meghatározása a közösségi szabályozásb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jövedéki terméke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általános meghatalmazásá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sványolajtermékek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oholok és alkoholtartalmú italok, valam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ánytermék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izontál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ányel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íg részletes leírását az egyes termékkörökre vonatkozó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tikális irányelve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rtalmazzá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övedéki adóköteles termékek köre néhány kisebb eltéréstől eltekintv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gegyezik a magyar előírásokk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és meghatározásuk az ásványolaj és alkoholtartalmú termékek esetén szintén vámtarifaszámok alapján történi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övedéki adókötelezettség keletkezé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övedéki adókötelezettség a jövedéki termékek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özössé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bármely tagállam – területén történő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őállítás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letv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álás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etén keletkezi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gállamok közöt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zállítás nem termékexport illetve impor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e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özösségen belüli értékesíté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lletve beszerzé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övedéki adófizetési kötelezettsé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övedéki adófizetési kötelezettség – a magyar szabályozáshoz hasonlóan – a jövedéki termék szabadforgalomba bocsátásakor keletkezi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zabadforgalomba bocsátás fogalmába beletartozi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az adófelfüggesztési eljárástól való bármilyen – akár szabálytalan – eltéré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a termékek adófelfüggesztésen – és ezáltal adóraktáron – kívüli bármilyen gyártása, valam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on termékek bármilyen – akár szabálytalan – importja is, amelyek nem kerültek adófelfüggesztés alá.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adófizetés hely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fizetés vonatkozásában közösségi jövedéki szabályozás alapelve, hogy a jövedéki adót a rendeletetési hely szerinti tagállamban kell megfizetni, vagyis ahova a jövedéki termék végcélként megérkezik (ahol a jövedéki terméket felhasználják, elfogyasztják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endeltetési ország elve alóli kivétel, hogy amennyiben a nem kereskedelmi mennyiségű jövedéki termé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magánszemély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saját használatukra szerzik be 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maguk szállítják e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kor az adót a beszerzés országában kell megfizet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raktárak szabályozá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özösségi szabályozá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hetőséget ad arra, hogy olyan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eskedelm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raktárak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zzanak létre, ahol termék előállítás nem, csak adófelfüggesztés alatt álló termékek tárolása történi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európai szabályozás szerint adóraktárak engedélyeseinek engedélye kiterjed mind az adott tagállamon belüli, mind a tagállamok között (Közösségen belüli) szállítások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jövedéki adókötelezettség fogal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övedéki adó egyfázisú, fogyasztást terhelő adó, aho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övedéki adókötelezettség csak egy konkrétan meghatározott termékkör (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jövedéki termékek) vonatkozásában áll fenn é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övedéki termékekkel kapcsolatban az adókötelezettséget ez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földi előállítás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llet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ál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pozz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g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ejegyzett/nem bejegyzett kerekedő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1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zatlan jövedéki termék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őszabályként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ak adóraktárak között lehet szállítani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ímzett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onban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raktári engedély nélküli hivatásos kereskedő is lehe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ilyen kereskedő adófelfüggesztés mellett más tagállamból származó jövedéki terméket is átvehet, azonban az átvétel időpontjában beáll az adófizetési kötelezettség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ejegyzett/nem bejegyzett kerekedő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jegyzett keresked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ki ezt a tevékenységé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szeres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égzi, aki engedélyt kapott jövedéki termékek rendszer fogadására másik tagállamokból, ezért jövedéki biztosítékot nyújt, a termékekről nyilvántartást vezet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hatóságna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mutatja, a termék átvételekor megfizeti a jövedéki adót, és hozzájárul mindennemű hatósági ellenőrzéshe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m bejegyzett keresked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ki ezt a jövedéki termékek átvételét csa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ti jellegg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m állandó engedély alapján végzi, ezért az áru részére történő feladása előtt nyilatkozatot tesz erről az adóhatósága felé, biztosítékot nyújt, a termék átvételekor megfizeti a jövedéki adót, és hozzájárul mindenfajta ellenőrzéshez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adóügyi képvisel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ügyi képviselőt az átadó adóraktár engedélyese nevezi ki a rendeltetés helye szerinti (másik) tagállamba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it ennek a tagállamnak az adóhatósága nyilvántartásba vesz és kiadja a részére a tevékenységéhez szükséges engedély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lynek birtokában az adóraktári engedély nélküli címzett helyett és annak nevében intézi a rendeltetési hely szerinti tagállamban a jövedéki adó-ügyek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tosítékot nyújt az adó megfizetésé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endeltetési hely tagállamában megfizeti a jövedéki adó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ilvántartást vezet és adatot szolgáltat az adóhatóság részé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agállamok között adófelfüggesztéssel való szállítá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övedéki termékek különböző tagállamokban lévő adóraktárak közötti,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letve adóraktárból bejegyzett/ be nem jegyzett kereskedő részére történő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zállítása adófelfüggesztés mellett termékkísérő okmánnyal lehetséges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 termék átvételét a címzett adóraktár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lletve a bejegyzett/be nem jegyzett kereskedő köteles visszaigazolni a feladó adóraktár részére, aki ezáltal mentesül a felfüggesztett adó megfizetése alól, és a felfüggesztett adófizetési kötelezettség a címzett adóraktárra száll á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övedéki biztosíték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irányelv különbséget tes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az adóraktárak tevékenységéhez kapcsolódó, a jövedéki termékek előállítása, raktározása során keletkező kockázatok kezelésére szolgáló tevékenységi biztosíték, valam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a jövedéki termékek tagállamok közötti szállítása esetén nyújtandó biztosíték közöt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íg a szállítással kapcsolatos biztosíték alkalmazását kötelezően előírja, addig a tevékenységi biztosíték esetén csak a lehetőséget kínálja fel a tagállamok részére, de bevezetését a tagállamok döntésére bízza. (Magyarországon jelenleg kötelező az ilyen biztosíték nyújtása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zott termékek szállítása a közösségen belü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ban az esetben, ha a jövedéki adót az egyik tagállamban már megfizették, de az érintett jövedéki terméket egy másik tagállamba szállítják végső felhasználás céljából, akkor az adót ebben a tagállamban, az itteni előírások szerint (is) meg kell fizetni, azonban a korábban megfizetett adó visszaigényelhető abban a tagállamban, ahonnan a termékek elszállításra kerülte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 akkor téríthető vissza, ha a rendeltetési hely tagállamában az adó megfizetése megtörté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jövedéki adókötelezettség feltétel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az adóköteles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övedéki termék kizárólag adóraktárban állítható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elő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a jövedéki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 megfizetése nélkül importált jövedéki termék kizárólag adóraktárb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gy adómentes felhasználó üzemébe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ül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he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a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övedéki terméket az adó megfizetése nélkül csak adóraktárb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dómentes felhasználó üzemében, vagy tranzitterületen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lehe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árol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abadforgalomban csak olyan jövedéki termék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legyen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zerezhető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artható, értékesíthető,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ly után az adót megfizetté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Jöt. területi hatá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öt. területi hatálya a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yar Köztársaság területére (belföldre)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rjed k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elföld fogalmába beletartozik a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ámszabad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és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zitterület 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övedéki terméke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   az ásványolajtermékek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   az alkoholtermék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   a sö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    a bo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      a pezsgő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      a köztes alkoholtermék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      a dohánygyártmá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Jöt.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zemélyi hatálya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övedéki törvé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zemélyi hatál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a jövedéki terméket – és az annak előállítására alkalmas, a törvényben meghatározott terméket – előállító, raktározó, tároló, importáló, exportáló, az azt forgalmazó, illetve egyéb módon birtokoló jogi személyre, jogi személyiség nélküli egyéb szervezetre és természetes személyre, valam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a jövedéki termék adóztatásával, forgalmazásával összefüggő felügyeleti, ellenőrzési és más hatósági feladatokat ellátó szervezetek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jed k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jövedéki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kötelezettség keletkezé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kötelezettség keletkezik, 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övedéki terméket belföldön előállítják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a jövedéki terméket importálják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övedéki terméket adóraktárba vagy adómentes felhasználó üzemébe tárolják b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16:16:00Z</dcterms:created>
  <dc:creator>Halász Család</dc:creator>
  <dc:description/>
  <dc:language>en-US</dc:language>
  <cp:lastModifiedBy>Halász Család</cp:lastModifiedBy>
  <dcterms:modified xsi:type="dcterms:W3CDTF">2003-10-25T17:54:34Z</dcterms:modified>
  <cp:revision>2</cp:revision>
  <dc:subject/>
  <dc:title>Pénzügyi jog</dc:title>
</cp:coreProperties>
</file>