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0B0A-B4BC-4F6A-8EF2-27F566709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78432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9090-CAF8-4272-B3BC-1D92D5723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5652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4284-89F7-4068-AD3B-03EA80A49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22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76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22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76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0FBD-BFE8-4BF0-A31F-BFE7581CE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375D-64A8-4DF0-ACAE-CF69DB282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652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78432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5652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22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76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22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76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CDA6-2C19-4F7C-B1EC-48DB507BF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E613-412A-49DB-92E1-40817948B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C107-2082-4A81-8C03-CBAB2179F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1A7E-AFCD-4A29-A5B2-BB6F7BB4F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7C46-1FF8-4CFC-9508-55E0F1CEB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652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3478-B2B1-49AE-8435-254341592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4B94-E594-4EDD-AB74-87B32F59D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128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22860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804960" indent="-22860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039680" indent="-22860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039680" indent="-228600">
              <a:lnSpc>
                <a:spcPts val="2999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039680" indent="-228600">
              <a:lnSpc>
                <a:spcPts val="2999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14400" y="6400800"/>
            <a:ext cx="3048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0 Deloitte &amp; Tou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3241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271D-4B2A-410F-B7CD-637A9007DD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DAT_sm" descr=""/>
          <p:cNvPicPr/>
          <p:nvPr/>
        </p:nvPicPr>
        <p:blipFill>
          <a:blip r:embed="rId2"/>
          <a:stretch/>
        </p:blipFill>
        <p:spPr>
          <a:xfrm>
            <a:off x="7010280" y="5807160"/>
            <a:ext cx="1511280" cy="647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571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838080" y="32767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0" algn="ctr">
              <a:lnSpc>
                <a:spcPts val="2999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algn="ctr">
              <a:lnSpc>
                <a:spcPts val="2999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576360" algn="ctr">
              <a:lnSpc>
                <a:spcPts val="2999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811080" algn="ctr">
              <a:lnSpc>
                <a:spcPts val="2999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811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811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A számvitel szerepe az adójogb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Dr. Békés Baláz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PPKE Pénzügyi jogi tanszé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09680" y="380880"/>
            <a:ext cx="472464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 mérle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990720"/>
            <a:ext cx="4191120" cy="13716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523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vállalat rendelkezésére álló anyagi javak összessé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990720"/>
            <a:ext cx="2438280" cy="53316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990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állalati vag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819520"/>
            <a:ext cx="4191120" cy="19810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4290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z újratermelési folyamatban betöltött szerepük, megjelenési formájuk szerinti csoportos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819520"/>
            <a:ext cx="2438640" cy="6094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971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2819520"/>
            <a:ext cx="4191120" cy="19810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5812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zármazásuk, eredetük szerinti csoportos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819520"/>
            <a:ext cx="2438640" cy="6094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2971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r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243828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243828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5486400"/>
            <a:ext cx="2438640" cy="5335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5486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     =    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87692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028840" y="4952880"/>
            <a:ext cx="12193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Összefüggések a vállalat eszközei és forrásai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ött az eredménymegosztás előtti állapotb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828800"/>
            <a:ext cx="3504960" cy="9144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743200"/>
            <a:ext cx="3504960" cy="13716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Befektetett Eszközö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114800"/>
            <a:ext cx="3504960" cy="15238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Forgóeszközö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1828800"/>
            <a:ext cx="3505320" cy="9144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Forrás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743200"/>
            <a:ext cx="3505320" cy="6858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Saját forrá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429000"/>
            <a:ext cx="3505320" cy="7621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Idegen forrá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4191120"/>
            <a:ext cx="3505320" cy="144756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Eredmén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(felosztás előt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nyeresé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62160" y="3048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038480" y="350532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962160" y="3809520"/>
            <a:ext cx="6094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038480" y="3200400"/>
            <a:ext cx="60984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114800" y="3962520"/>
            <a:ext cx="53352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962160" y="5257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457200"/>
            <a:ext cx="7848720" cy="81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 vállalat eszközeinek csoportosítá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megjelenési forma (összetétel) sze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1600200"/>
            <a:ext cx="27432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590920"/>
            <a:ext cx="403848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gó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581280"/>
            <a:ext cx="99072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Köv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elés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590920"/>
            <a:ext cx="373392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efektetett 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581280"/>
            <a:ext cx="106668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Pé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44792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Immateriális jav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581280"/>
            <a:ext cx="99072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Érték-papí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581280"/>
            <a:ext cx="121896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Készlet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3581280"/>
            <a:ext cx="106704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árgy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3581280"/>
            <a:ext cx="1447920" cy="9169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Befektete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pénzügy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236232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236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236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4872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2057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457200"/>
            <a:ext cx="784872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 források (a vállalati vagyon eredete szerinti) csoportosí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990720"/>
            <a:ext cx="266688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R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828800"/>
            <a:ext cx="152388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aját forr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1828800"/>
            <a:ext cx="137160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redmé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nyeresé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1828800"/>
            <a:ext cx="358164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degen források (tartozás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2590920"/>
            <a:ext cx="510552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Állammal/Bankkal/Más vállalattal/ Dolgozókk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szemberi kötelezettség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-640080" y="3991680"/>
            <a:ext cx="244152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Jegyzett tő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105840" y="3990240"/>
            <a:ext cx="243972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artalék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03280" y="3839760"/>
            <a:ext cx="244008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lőző évek áthozott vesztesé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036800" y="3915720"/>
            <a:ext cx="304956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állalatnál maradó rés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mérleg szerinti eredmé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1875960" y="3915000"/>
            <a:ext cx="304812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lvonásra kerülő ré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adó és osztalé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3091680" y="4146840"/>
            <a:ext cx="229248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ótartoz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Állami kölcsö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3899520" y="4171680"/>
            <a:ext cx="2286000" cy="642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eruházási hi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4813560" y="4021920"/>
            <a:ext cx="2286000" cy="947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góeszköz hi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5895360" y="3934440"/>
            <a:ext cx="2292480" cy="1128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zállít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7205760" y="3842640"/>
            <a:ext cx="2293920" cy="13136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unkabér és egyéb tarz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5943600"/>
            <a:ext cx="251460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aját forr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943600"/>
            <a:ext cx="579096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degen források (tartozások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1523880"/>
            <a:ext cx="502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590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2590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14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14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1008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10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5410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410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5791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5638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5638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5638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5638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5638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5791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838080"/>
            <a:ext cx="83818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z alapvető gazdasági események megjelenése a főkönyvi számlák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28954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2666880"/>
            <a:ext cx="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2895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266688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3733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            Eszköz számlák           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2209680"/>
            <a:ext cx="36576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         Forrás  számlák           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6120" y="2895480"/>
            <a:ext cx="7285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 nő és E csökken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-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 nő és F csökken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            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 nő és F nő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          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 csökken és F csökken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Eredménykimutatá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Üzemi (üzleti) tevékenység eredmény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énzügyi műveletek eredmény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zokásos vállalkozási ered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endkívüli ered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9900"/>
                </a:solidFill>
                <a:latin typeface="Arial"/>
                <a:ea typeface="Times New Roman"/>
              </a:rPr>
              <a:t>E</a:t>
            </a:r>
            <a:r>
              <a:rPr b="0" lang="hu-HU" sz="2600" spc="-1" strike="noStrike">
                <a:solidFill>
                  <a:srgbClr val="ff9900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9900"/>
                </a:solidFill>
                <a:latin typeface="Arial"/>
                <a:ea typeface="Times New Roman"/>
              </a:rPr>
              <a:t>Adózás előtti ered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dózott ered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G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érleg szerinti ered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533520"/>
            <a:ext cx="56386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z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kimut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2133720" cy="14479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Üz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üzlet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vékenysé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1295280"/>
            <a:ext cx="2514600" cy="14479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énzüg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űvel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2743200"/>
            <a:ext cx="4648320" cy="8380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okásos vállalkozá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2743200"/>
            <a:ext cx="1828800" cy="8380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endkívü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581280"/>
            <a:ext cx="6477120" cy="6858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dózás előtti 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267080"/>
            <a:ext cx="4648320" cy="7621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dózott 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4267080"/>
            <a:ext cx="1828800" cy="7621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dófizeté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ötelezett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5029200"/>
            <a:ext cx="2514600" cy="10666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é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eri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5029200"/>
            <a:ext cx="2133720" cy="10666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Jóváhagy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osztal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457200"/>
            <a:ext cx="601992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 könyvvizsgálói jelentés tartal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219320"/>
            <a:ext cx="2210040" cy="99036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1219320"/>
            <a:ext cx="2590560" cy="99036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z adott beszámol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zonosító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1219320"/>
            <a:ext cx="3352680" cy="99036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z elvégzett vizsgál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jellege, összefoglal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emuta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438280"/>
            <a:ext cx="2590560" cy="9907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önyvizsgálói jelen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56.§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2590920"/>
            <a:ext cx="2133360" cy="6094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elte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5257800"/>
            <a:ext cx="7620120" cy="9907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könyvvizsgáló neve, aláírása, címe, kamarai bejegyzési szám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lletve társaság esetén még a képviseletre jogosult neve, aláírás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társaság megnevezése, címe, kamarai nyilvántartási szá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3657600"/>
            <a:ext cx="3352680" cy="14479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Záradék, vagy a zára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gadásának elutas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657600"/>
            <a:ext cx="4114800" cy="13716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élemény, álláspont arró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ogy a beszámoló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glaltak megfelelnek-e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jogszabályban foglaltakn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önyvvizsgálói jelentés és a záradék,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lletve a záradék megadásának elutasítása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Könyvvizsgálói jelent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, 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záradék megadásának elutasítá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b, A könyvvizsgálói záradék 158.§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elutasít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hitelesítő, a következő szöveg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 is magában foglal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korlátozot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A könyvvizsgálói záradék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lnSpc>
                <a:spcPts val="29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könyvvizsgálat során a vállalkozó éves beszámolóját (egyszerűsített éves beszámolóját), annak részeit és tételeit, azok könyvelési és bizonylati alátámasztását az érvényes nemzeti könyvvizsgálati standardokban foglaltak szerint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felülvizsgáltam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, és ennek alapján elegendő és megfelelő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bizonyosságot szereztem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arról, hogy az éves beszámolót (az egyszerűsített éves beszámolót) a számviteli törvényben foglaltak és az általános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számviteli elvek szerint készítették el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. Az éves beszámoló (az egyszerűsített éves beszámoló) a vállalkozó vagyoni, pénzügyi és jövedelmi helyzetéről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megbízható és való képet ad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. Az üzleti jelentés az éves beszámoló adataival összhangban va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0" algn="just">
              <a:lnSpc>
                <a:spcPts val="29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Tartalo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Bevezet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Számviteli alapelv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Példamegold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Részletszabály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zámvitel funkciój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Megbízható és valós ké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Szt. preambulu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A gazdasági esemény, bizonylat és a könyvvitel összefüggé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Gazdasági ese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Bizonyl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Könyvelés (bizonylatfeldolgozás és nyilvántartá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Összesítő-ellenőrző kimutat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zt. alapelve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Általán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Vállalkozás folytatásának az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Tartalmi alapelv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Teljessé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Valódisá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Óvatosság elv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Összemérés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zt. alapelve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Kiegészítő alapelv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Tartalom elsődlegessége a formával szemb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Egyedi értékelés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Bruttó elszámolás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Időbeli elhatárolás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Lényegessé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Gazdaságossá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zt. alapelve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Formai alapelv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Világossá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Folytonossá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Következetesség 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zt. alapelve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Nem nevesített alapelv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Hasznosíthatósá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Semlegessé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Időszerűség 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A beszámoló része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Mérle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Eredménykimutat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Kiegészítő mellékl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Üzleti jelent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2:54:00Z</dcterms:created>
  <dc:creator>Gyallai Edit</dc:creator>
  <dc:description>Deloitte &amp; Touche On-Screen presentation template for Microsoft PowerPoint 97</dc:description>
  <dc:language>en-US</dc:language>
  <cp:lastModifiedBy>Békés Balázs</cp:lastModifiedBy>
  <cp:lastPrinted>2002-03-01T11:23:03Z</cp:lastPrinted>
  <dcterms:modified xsi:type="dcterms:W3CDTF">2003-03-04T22:49:00Z</dcterms:modified>
  <cp:revision>21</cp:revision>
  <dc:subject/>
  <dc:title>A számvitel szerepe az adójogban</dc:title>
</cp:coreProperties>
</file>